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1.png" ContentType="image/png"/>
  <Override PartName="/ppt/media/image6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900FC-653C-447B-9390-EA9D69777F5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A5010-14F5-428C-85F5-4C7109C3DE2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5CFE3-5F97-41BC-A378-E1C8AA86A27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35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39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35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G_2702"/>
          <p:cNvPicPr/>
          <p:nvPr/>
        </p:nvPicPr>
        <p:blipFill>
          <a:blip r:embed="rId2"/>
          <a:srcRect l="15114" t="3282" r="25264" b="370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d4b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WordArt 17"/>
          <p:cNvSpPr txBox="1"/>
          <p:nvPr/>
        </p:nvSpPr>
        <p:spPr>
          <a:xfrm rot="16200000">
            <a:off x="-2339640" y="2660400"/>
            <a:ext cx="5238720" cy="2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eaeaea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mission Sportive FFVV</a:t>
            </a:r>
            <a:endParaRPr b="0" i="1" lang="en-US" sz="1800" spc="1" strike="noStrike">
              <a:ln w="9360">
                <a:solidFill>
                  <a:srgbClr val="eaeaea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" name="Picture 18" descr="logo_ffvv_75"/>
          <p:cNvPicPr/>
          <p:nvPr/>
        </p:nvPicPr>
        <p:blipFill>
          <a:blip r:embed="rId3"/>
          <a:stretch/>
        </p:blipFill>
        <p:spPr>
          <a:xfrm>
            <a:off x="8318520" y="5994360"/>
            <a:ext cx="787320" cy="787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95280" y="6305040"/>
            <a:ext cx="673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467480" y="6308280"/>
            <a:ext cx="1244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A9A3-E981-4325-840E-C568F69E27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CB6E-C4E0-4969-982B-2D043E83AE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679560"/>
            <a:ext cx="868680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d9ee12"/>
                </a:solidFill>
                <a:latin typeface="Arial"/>
              </a:rPr>
              <a:t>Cursus Accès Compétition</a:t>
            </a:r>
            <a:br>
              <a:rPr sz="3600"/>
            </a:br>
            <a:r>
              <a:rPr b="1" lang="fr-FR" sz="3600" spc="-1" strike="noStrike">
                <a:solidFill>
                  <a:srgbClr val="d9ee12"/>
                </a:solidFill>
                <a:latin typeface="Arial"/>
              </a:rPr>
              <a:t>02 – Préparation du matéri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06440" y="5168880"/>
            <a:ext cx="87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mmission.sportive@ffvv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ttp://sportive.ffvv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C:\Documents and Settings\Philippe\Mes documents\Commission Sportive FFVV\Images\Image1.jpg"/>
          <p:cNvPicPr/>
          <p:nvPr/>
        </p:nvPicPr>
        <p:blipFill>
          <a:blip r:embed="rId1"/>
          <a:stretch/>
        </p:blipFill>
        <p:spPr>
          <a:xfrm>
            <a:off x="1866960" y="763560"/>
            <a:ext cx="592776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187-002D-407E-AC09-944B7486F4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-list Logist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83920" y="876240"/>
            <a:ext cx="810252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ogement adapté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Bien dormir est primordial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Repas adapté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Matin : petit-déjeuner très important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Midi : toujours décoller le ventre plein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Le plat roi : les pâtes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Dans les concours importants, un service de restauration est disponible sur plac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Soir : sans excès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Les jours/semaines avant le concours, habituez votre corps au régime alimentaire que vous aurez en concours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Equipe sol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Si possible avoir un équipier dédié et de confianc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A défaut, toujours savoir qui viendra vous cherchez si besoin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Si possible radio VHF portabl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3162-CA5F-4CDB-B9D0-F5567D691B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éparation plan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Enlever tout ce qui ne sert à rien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Plus léger, moins de panne, plus de place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Vérifier/simplifier le circuit électriqu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Loi de Murphy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Vérifier la tenue de la charge de la batteri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jouter un numéro de concours sur la dér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jouter marquage anti-collision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Vérifier/remplacer l’étanchéité des gouverne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Vérifier l’état du pneu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jouter marquage rouge/vert sur la commande du train d’atterrissag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Les « ventres » sont courants en compétition et arrivent aux meilleurs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ssurer vous d’avoir une bonne radio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Micro, haut-parleurs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Remplacer les vis/rivets des trappes de train par des vis en plastiqu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Fusible en cas de vache dans sol mou : peut sauver les trappes  de train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5CFF-B72F-4AB2-A8B0-2D1581031B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uning plan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Ventilation plus silencieus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jouter des pailles ou plumes d’autruche pour un meilleur écoulement de l’air dans la bouche d’air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Etudier l’étanchéification de la direction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viter les courants d’air / fuite cockpi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jouter un joint mousse fin sur le cadre de la verrièr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Verrière et fil de laine comme neuf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lisher/Plizer planeur pour éviter le dépôt de salissur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4F6C-5282-4F09-9A0F-2FD3838423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éparation FLA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égler le FLARM en mode « stealth »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Invisible pour l’espionnage mais visible pour l’anticollision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ventuellement activer le mode « compétition »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Moins d’alerte collision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e coupez </a:t>
            </a:r>
            <a:r>
              <a:rPr b="0" lang="fr-FR" sz="2800" spc="-1" strike="noStrike" u="sng">
                <a:solidFill>
                  <a:srgbClr val="ffff66"/>
                </a:solidFill>
                <a:uFillTx/>
                <a:latin typeface="Arial"/>
              </a:rPr>
              <a:t>jamai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le FLARM en vol, même en paque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Réduisez le volume si besoin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appuis courts sur le bouton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ppuyer deux fois sur les boutons désactive les alarmes pendant 5 minute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Mais reste visible des autres FLARM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1047-4494-4764-A0A5-0631B12855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entrage du plan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 bon centrage est essenti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Trop avant : le planeur accélère naturellement, mais manque de maniabilité et monte mal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Le manche doit être mis en arrière en spirale =&gt; trainée!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Trop arrière : le planeur est agile, a tendance à monter lors de rafale mais accélère mal et peut être dangereux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Le manche doit être mis en avant en spirale =&gt; trainée!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 bon centrage dépend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e chaque modèle de planeur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u feeling du pilot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9AF3-8B28-425E-8BAD-A2754BFDAC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terminer son centr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Par pesée au so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Avec des balances précises, un fil à plomb, un mètre et des cales pour ajuster la ligne de vol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Et le pilote à bord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7" name="Picture 4" descr="IMG_5118"/>
          <p:cNvPicPr/>
          <p:nvPr/>
        </p:nvPicPr>
        <p:blipFill>
          <a:blip r:embed="rId1"/>
          <a:srcRect l="0" t="10418" r="0" b="11393"/>
          <a:stretch/>
        </p:blipFill>
        <p:spPr>
          <a:xfrm>
            <a:off x="1701720" y="2400480"/>
            <a:ext cx="598968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BAAB-90FB-4ED6-9ADE-F2742D9F58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79"/>
          <p:cNvSpPr/>
          <p:nvPr/>
        </p:nvSpPr>
        <p:spPr>
          <a:xfrm>
            <a:off x="-203040" y="-88920"/>
            <a:ext cx="9829800" cy="716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2" name="Picture 978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196480" cy="5245200"/>
          </a:xfrm>
          <a:prstGeom prst="rect">
            <a:avLst/>
          </a:prstGeom>
          <a:ln w="0">
            <a:noFill/>
          </a:ln>
        </p:spPr>
      </p:pic>
      <p:sp>
        <p:nvSpPr>
          <p:cNvPr id="103" name="Oval 983"/>
          <p:cNvSpPr/>
          <p:nvPr/>
        </p:nvSpPr>
        <p:spPr>
          <a:xfrm>
            <a:off x="1943280" y="5676840"/>
            <a:ext cx="749160" cy="507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84"/>
          <p:cNvSpPr/>
          <p:nvPr/>
        </p:nvSpPr>
        <p:spPr>
          <a:xfrm>
            <a:off x="3213000" y="6108840"/>
            <a:ext cx="3848040" cy="46980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7259"/>
              <a:gd name="adj5" fmla="val 0"/>
              <a:gd name="adj6" fmla="val -14523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0000"/>
                </a:solidFill>
                <a:latin typeface="Arial"/>
              </a:rPr>
              <a:t>Il faut ensuite comparer cette valeur position du centre de gravité à celle recommandée par le construc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85"/>
          <p:cNvSpPr/>
          <p:nvPr/>
        </p:nvSpPr>
        <p:spPr>
          <a:xfrm>
            <a:off x="4483080" y="4394160"/>
            <a:ext cx="368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86"/>
          <p:cNvSpPr/>
          <p:nvPr/>
        </p:nvSpPr>
        <p:spPr>
          <a:xfrm>
            <a:off x="4699080" y="3149640"/>
            <a:ext cx="39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lote : Jean Durand, habillé avec son équip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CE54-CAAF-4036-BE8F-A2BE587E22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naître le braquage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la gouverne de profondeur en v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63600" y="1358640"/>
            <a:ext cx="40640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Attachez un fil de laine ou une cordelette à un point fixe au milieu du tableau de bord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e fil de laine permet de déterminer la position du manche sur l’axe contrôlant la profondeur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Vous pourrez alors vérifier qu’en spirale et en transition, la gouverne n’est pas « trop » braquée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79640" y="1117440"/>
            <a:ext cx="3476520" cy="4635720"/>
          </a:xfrm>
          <a:prstGeom prst="rect">
            <a:avLst/>
          </a:prstGeom>
          <a:ln w="0">
            <a:noFill/>
          </a:ln>
        </p:spPr>
      </p:pic>
      <p:sp>
        <p:nvSpPr>
          <p:cNvPr id="111" name="Line 6"/>
          <p:cNvSpPr/>
          <p:nvPr/>
        </p:nvSpPr>
        <p:spPr>
          <a:xfrm>
            <a:off x="2743200" y="2768760"/>
            <a:ext cx="203040" cy="685800"/>
          </a:xfrm>
          <a:prstGeom prst="line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CA69-A08D-4B51-9F85-58BE8ADAFB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dapter un centr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i les ingénieurs ayant conçu le planeur recommandent un centrage optima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Suivez leur avis (manuel de vol)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centrer plus avant un planeur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Gueuse dans le cockpit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centrer plus arrière un planeur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Faire maigrir le pilote!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Gueuse/lest dans l’empennag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Pégase : plomb dans le patin de queue, plomb sur la ferrure de profondeur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A retirer après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E7DC-8460-48D5-BFAD-E564CC840E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riomè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680" y="1409400"/>
            <a:ext cx="69976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’ascendance est d’abord ressentie par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Votre corps!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’instrument qui permet de savoir si l’on monte vraiment est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L’altimètre!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Utilisez uniquement des altimètres double aiguille (1 graduation = 10 mètres) ou mieux un altimètre électroniqu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50179" t="0" r="0" b="8888"/>
          <a:stretch/>
        </p:blipFill>
        <p:spPr>
          <a:xfrm>
            <a:off x="1123920" y="368280"/>
            <a:ext cx="1020960" cy="294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wpditxjg"/>
          <p:cNvPicPr/>
          <p:nvPr/>
        </p:nvPicPr>
        <p:blipFill>
          <a:blip r:embed="rId2"/>
          <a:stretch/>
        </p:blipFill>
        <p:spPr>
          <a:xfrm>
            <a:off x="609480" y="3403440"/>
            <a:ext cx="2082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e la date 6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C12F-1485-4175-97A3-0FD46F17C7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a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Préparation du matériel en compétition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1040" y="1555560"/>
            <a:ext cx="808992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Partie 1 : Check-lists pour ne rien oublier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Partie 2 : Affuter son équipe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7" name="Picture 22" descr="261"/>
          <p:cNvPicPr/>
          <p:nvPr/>
        </p:nvPicPr>
        <p:blipFill>
          <a:blip r:embed="rId1"/>
          <a:stretch/>
        </p:blipFill>
        <p:spPr>
          <a:xfrm>
            <a:off x="1587600" y="27226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1B6C-C2CC-410F-B90B-16B10C3A65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différents types de variomèt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66520" y="990720"/>
            <a:ext cx="631188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Instantané à énergie totale : retard d’une à trois seconde…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Utile pour centrer de l’ascendance et donner une valeur quantitative au regard des sensations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Certains les préfèrent rapide (Sage), d’autres lents (Type 100)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Le vario électronique permet une traduction audio de la valeur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d4b53"/>
                </a:solidFill>
                <a:latin typeface="Arial"/>
              </a:rPr>
              <a:t>Sécurité en vol paquet</a:t>
            </a:r>
            <a:endParaRPr b="0" i="1" lang="en-US" sz="16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Intégrateur : donne le taux de montée moyen sur le dernier tour de spirale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Bon indicateur de la valeur actuelle de l’ascendance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Netto ou « masse d’air » instantané : retranche de la valeur actuelle du vario le taux de chutte du planeur en air calme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Utile en transition en vol rapide pour savoir comment se comporte l’air dans lequel se déplace le planeur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Uniquement réalisable avec un vario électronique sophistiqué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36800" y="2674800"/>
            <a:ext cx="1403280" cy="1406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1139760" y="957240"/>
            <a:ext cx="1200240" cy="120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1174680" y="4467240"/>
            <a:ext cx="11811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C043-9F7B-48BA-9FE9-1CA71C74C9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ruc variomè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 meilleur vario est …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Celui avec lequel le pilote se sent bien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amortir un vario instantané pneumatiq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jouter des filtres à essence sur les tuyaux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Vario à énergie totale sous/sur compensé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Jouez sur la forme de l’anten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Vario instantané perturbé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llonger l’antenn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E3C4-E2A1-4188-BAC2-1928068813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irecteur de Vol – « Speed-to-Fly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0" y="901800"/>
            <a:ext cx="473724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dopter la bonne vitesse de transition est crucia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Théorie Paul McCready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En 1949, il a unifié les différentes approches en offrant un modèle simple et applicable avec un outil génial et simplissime : l’anneau ou couronne McCready.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nneau McCready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En fonction du taux de montée estimée dans la prochaine ascendance, l’aiguille du vario indique la vitesse à laquelle voler afin de maximiser la vitesse moyenne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Couronne valable pour un seul type de planeur à une certaine masse (charge alaire)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6d4b53"/>
                </a:solidFill>
                <a:latin typeface="Arial"/>
              </a:rPr>
              <a:t>Polaire fixe</a:t>
            </a:r>
            <a:endParaRPr b="0" i="1" lang="en-US" sz="14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Difficile à gérer si l’on emporte de l’eau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6d4b53"/>
                </a:solidFill>
                <a:latin typeface="Arial"/>
              </a:rPr>
              <a:t>Polaire variable</a:t>
            </a:r>
            <a:endParaRPr b="0" i="1" lang="en-US" sz="14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</p:txBody>
      </p:sp>
      <p:pic>
        <p:nvPicPr>
          <p:cNvPr id="132" name="Picture 5" descr="File017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00280" y="876240"/>
            <a:ext cx="30733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6574-374A-4A3F-82CD-6F56ABEDC5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irecteur de Vol – « Speed-to-Fly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362320" y="990720"/>
            <a:ext cx="632448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irecteur de vol électroniq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pplication de la théorie McCready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Mais on peut facilement faire varier la charge alaire (électronique)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ffichage de type «push-pull »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-&gt; « Accélère », « ralentis »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mplace avantageusement la couronne McCready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54040" y="1278000"/>
            <a:ext cx="1808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9D21-ADD8-456E-9C1E-C4F7DA94DF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irecteur de Vol – « Speed-to-Fly 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1120" y="990720"/>
            <a:ext cx="76453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 classe club (water-ballast interdit) la couronne McCready est suffisant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Attention à disposer d’une couronne adaptée au type de planeur et à la charge alaire utilisé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1D7A-A72D-46A4-B753-3428923C86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isposition recommandée des instr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3" name="Picture 4" descr="P1010332"/>
          <p:cNvPicPr/>
          <p:nvPr/>
        </p:nvPicPr>
        <p:blipFill>
          <a:blip r:embed="rId1"/>
          <a:srcRect l="14974" t="15453" r="8334" b="8681"/>
          <a:stretch/>
        </p:blipFill>
        <p:spPr>
          <a:xfrm>
            <a:off x="1727280" y="1422360"/>
            <a:ext cx="5842080" cy="433404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5"/>
          <p:cNvSpPr/>
          <p:nvPr/>
        </p:nvSpPr>
        <p:spPr>
          <a:xfrm>
            <a:off x="4927680" y="901800"/>
            <a:ext cx="1625400" cy="596880"/>
          </a:xfrm>
          <a:prstGeom prst="borderCallout2">
            <a:avLst>
              <a:gd name="adj1" fmla="val 18750"/>
              <a:gd name="adj2" fmla="val -8333"/>
              <a:gd name="adj3" fmla="val 19148"/>
              <a:gd name="adj4" fmla="val -19236"/>
              <a:gd name="adj5" fmla="val 248935"/>
              <a:gd name="adj6" fmla="val -34375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larm : sur la casquette du tableau de bord afin de l’avoir dans le champ visuel en regardant deh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5575320" y="1968480"/>
            <a:ext cx="1625760" cy="469800"/>
          </a:xfrm>
          <a:prstGeom prst="borderCallout2">
            <a:avLst>
              <a:gd name="adj1" fmla="val 18750"/>
              <a:gd name="adj2" fmla="val -8333"/>
              <a:gd name="adj3" fmla="val 24324"/>
              <a:gd name="adj4" fmla="val -4981"/>
              <a:gd name="adj5" fmla="val 232430"/>
              <a:gd name="adj6" fmla="val -6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ariomètres : le plus eh haut possible (c’est l’instrument que l’on regarde le pl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1168560" y="2108160"/>
            <a:ext cx="1625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13185"/>
              <a:gd name="adj5" fmla="val 253703"/>
              <a:gd name="adj6" fmla="val 121875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némomètre : c’est l’instrument le plus « vitale ». Choisir un gros diamètre pour lisibilité maximale (80mm). De préférence à gauch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736560" y="3022560"/>
            <a:ext cx="1625760" cy="49536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110060"/>
              <a:gd name="adj5" fmla="val 202564"/>
              <a:gd name="adj6" fmla="val 115625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pas : inutile avec le GPS, mais obligatoire. A mettre la où cela gène le mo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927000" y="5448240"/>
            <a:ext cx="1625760" cy="49536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145314"/>
              <a:gd name="adj5" fmla="val -2564"/>
              <a:gd name="adj6" fmla="val 187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adio / Transpondeur : le pilote a rarement besoin d’accéder à ces instrum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4889520" y="5905440"/>
            <a:ext cx="1625760" cy="279360"/>
          </a:xfrm>
          <a:prstGeom prst="borderCallout2">
            <a:avLst>
              <a:gd name="adj1" fmla="val 18750"/>
              <a:gd name="adj2" fmla="val -8333"/>
              <a:gd name="adj3" fmla="val 40907"/>
              <a:gd name="adj4" fmla="val -12305"/>
              <a:gd name="adj5" fmla="val -340907"/>
              <a:gd name="adj6" fmla="val -20314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Bille : inutile mais oblig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1155600" y="1041480"/>
            <a:ext cx="162576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39356"/>
              <a:gd name="adj5" fmla="val 118333"/>
              <a:gd name="adj6" fmla="val 175782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il de laine : très important. A mettre dans le champ visuel et tenu par un scotch résistant et de vaible taille afin de ne pas gêner la vis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7518240" y="4648320"/>
            <a:ext cx="1625760" cy="596880"/>
          </a:xfrm>
          <a:prstGeom prst="borderCallout2">
            <a:avLst>
              <a:gd name="adj1" fmla="val 18750"/>
              <a:gd name="adj2" fmla="val -8333"/>
              <a:gd name="adj3" fmla="val 19148"/>
              <a:gd name="adj4" fmla="val -21972"/>
              <a:gd name="adj5" fmla="val -59574"/>
              <a:gd name="adj6" fmla="val -39842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DA/GPS : toujours placé sur un support fixe (libre=danger), du côté de la main la plus agile du pil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863640" y="4915080"/>
            <a:ext cx="1625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144921"/>
              <a:gd name="adj5" fmla="val -92305"/>
              <a:gd name="adj6" fmla="val 18671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alculateur : au centre et accessible avec la m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6146640" y="2857680"/>
            <a:ext cx="1651320" cy="444240"/>
          </a:xfrm>
          <a:prstGeom prst="borderCallout2">
            <a:avLst>
              <a:gd name="adj1" fmla="val 18750"/>
              <a:gd name="adj2" fmla="val -8333"/>
              <a:gd name="adj3" fmla="val 25712"/>
              <a:gd name="adj4" fmla="val -26537"/>
              <a:gd name="adj5" fmla="val 208569"/>
              <a:gd name="adj6" fmla="val -49231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ltimètre : à un endroit bien lisible (sauf si le calculateur affiche la valeur en numériqu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BBAF-124A-49AE-82DB-2B2AD5F782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GPS – PDA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Données à récupérer sur le site web du Championnat et à installer dans le GPS-PDA 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La base de points de virag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Le fichier d’espace aérien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A maitriser bien avant le début de la compétition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arte aéro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Echelle : 1/500 000 (sauf en montagne)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Découper uniquement la zone des vols (sinon ingérable en vol)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Colorier les zones interdites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A plastifier (durée de vie+effaçable)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Pour tracer le circuit :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Feutre et solvant pour effacer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Ou scotch repositionnabl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E284-B805-4D23-AED1-B202BE3E3C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éparation de la remor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neus en bon ét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ttention : un pneu qui ne roule pas s’use très vit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uppor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Tous présents avec garniture en bon état pour ne pas abimer le planeur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ircuit électrique fonctionn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rise (7-13 broches)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Lumièr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lés…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8B78-5C93-464C-B161-EB9BC73636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alcul d’Arriv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20560" y="837720"/>
            <a:ext cx="8102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 cerveau du pilote étant très occupé en compétition et celui-ci ayant besoin de calculs précis, on évitera de faire des divisions mentales compliqué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our les calculs de locaux, on s’équipera au minimum d’une règle de finesse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Hauteur requise = Distance à parcourir / Finesse futur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our déterminer la finesse future, on utilisera un calculateur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Règle Bailleau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Barbera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Calculateur électroniqu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E5F4-C2B3-404D-ADE2-0E23004AC8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mment estimer la finesse fu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a finesse future est fonction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Polaire : on la connaît exactement (entrée dans le calculateur)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Vent : on le connaît assez précisément (GPS)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Calage McCready : à estimer par le pilote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d4b53"/>
                </a:solidFill>
                <a:latin typeface="Arial"/>
              </a:rPr>
              <a:t>Si l’on applique la théorie McCready, alors le calcul de hauteur nécessaire donnera la hauteur à avoir pour optimiser la vitesse moyenne (et donc arriver le plus vite)</a:t>
            </a:r>
            <a:endParaRPr b="0" i="1" lang="en-US" sz="16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d4b53"/>
                </a:solidFill>
                <a:latin typeface="Arial"/>
              </a:rPr>
              <a:t>Ce n’est nullement une garantie de renter</a:t>
            </a:r>
            <a:endParaRPr b="0" i="1" lang="en-US" sz="16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s calculateurs électroniques fournissent exactement le même résultat qu’un calculateur manu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Mêmes formules, mêmes entrées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Avantage des calculateurs électroniques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Ils sont automatiques et remettent à jour leurs valeurs chaque seconde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S’ils intègrent un altimètre, ils peuvent afficher non pas l’altitude requise mais l’altitude manquante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d4b53"/>
                </a:solidFill>
                <a:latin typeface="Arial"/>
              </a:rPr>
              <a:t>Ecart de plan : plus parlant facile de voir la tendance</a:t>
            </a:r>
            <a:endParaRPr b="0" i="1" lang="en-US" sz="16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isques des calculateurs électroniques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Ils fournissent une valeur même à un pilote qui ne maitrise pas les données entrées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371E-1B6C-4F3D-AA92-47A01B5732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-list Papiers Pil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icence-assurance FFVV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icence Pilote Planeur valid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ttention aux nouvelles conditions de renouvellement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Heures de vol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Visite médicale aéro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Test en vol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arnet de Vo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Visite médicale de non contre-indic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Médecin traitant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Attestation/ordonnance si traitement médica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 transmettre à l’organisation au début du concour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8C8-F724-4CB7-9879-A1D1DA9F59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alculate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35120" y="988920"/>
            <a:ext cx="3379680" cy="2416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rcRect l="0" t="0" r="48303" b="0"/>
          <a:stretch/>
        </p:blipFill>
        <p:spPr>
          <a:xfrm>
            <a:off x="5454720" y="901800"/>
            <a:ext cx="2593800" cy="251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3"/>
          <a:stretch/>
        </p:blipFill>
        <p:spPr>
          <a:xfrm>
            <a:off x="5481720" y="3490920"/>
            <a:ext cx="2205000" cy="3367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File0175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1460520" y="3594240"/>
            <a:ext cx="18032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A605-3698-437F-BE6D-458AE30528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atériel de répa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Apporter un tournevi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le reste, sauf si vous y vous connaissez, demandez de l’aide sur place à l’organis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6AAA-8942-4702-8EC0-528069D679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-list Navig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3920" y="812880"/>
            <a:ext cx="810252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arte aéro 1/500 000 couvrant la zone des vo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vec mise en exergue des espaces aérien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rayon, règle, compas, fluo, bloc not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our tracer la carte et prendre des note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GPS ou PDA (avec alimentation et support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registreur de vol accepté par l’organis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vec câble et logiciel pour déloggag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Téléphone portable chargé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En mode silencieux mais allumé (balise de fortune)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Fiche d’épreuve du jou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Feuille de vach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6F73-1A15-42BC-A6F2-F2D6FE4B79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-list Cor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3920" y="761760"/>
            <a:ext cx="810252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Gourde ou mieux « Camel Bag »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Pour s’hydrater facilement, sans lâcher les commandes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Boire avant d’avoir soif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Biscuits, barres céréales, compotes, pâtes de frui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Pour absorber des glucides rapidement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Eviter le coup de pompe voir hypoglycémie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Carburant du cerveau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Chapeau « Bob »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Surtout pas de casquette (mauvaise visibilité)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unettes de solei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Non polarisées, teinte brune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Vêtements et chaussures adaptés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Ni chaud, ni froid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Nécessaire pour uriner en vol : SECURITE!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Sac poubelle, Penilex, bouteille de lait, couche, etc.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L’envie est encore plus pressante en compétition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D7D0-6C79-4D6C-B5DF-213C3C1673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-list Papiers Plan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Fiche de pesé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Connaître parfaitement la masse du planeur avec pilote et son équipement à bord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ertificat d’assurance Responsabilité Civil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arnet de route à jou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Jamais dans le planeur (risque de vol aux vaches)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ans la voiture de dépannage avec les autres papiers)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EN valid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73E9-C16C-4768-98B4-BA8E2A3635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-list Papiers Remorque/Voi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arte grise remorq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ertificat d’assurance remorque (carte verte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arte grise voitur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ertificat d’assurance voiture (carte verte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Vérifier que les assurances couvrent bien l’attelage (appeler l’assureur de la voiture)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CC3C-9F03-4065-BF4E-5CBFCD236F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-list Plan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3920" y="837720"/>
            <a:ext cx="810252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laneur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1 fuselage, 2 ailes, 1 profondeur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Axe(s) longeron, axe profondeur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6d4b53"/>
                </a:solidFill>
                <a:latin typeface="Arial"/>
              </a:rPr>
              <a:t>Prévoir un tube de graisse</a:t>
            </a:r>
            <a:endParaRPr b="0" i="1" lang="en-US" sz="14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Antenne de compensation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Batterie(s) et chargeur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Batterie tenant encore bien la charge (à changer tous les 4/5 ans)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Gueuses si nécessaire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usibles électrique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arachut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LARM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Enregistreur approuvé pour la compétition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FLARM, PDA OK en secours pour championnat de France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Trolley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Présent dans la remorque/voiture au moment du décollage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Système de mise en piste ou simple corde avec anneau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Il peut être utile d’avoir un anneau dans le planeur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Câble de remorquage (40 mètres pas plus)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Chaque concurrent doit avoir le sien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Housse de verrièr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618-CD50-4FCD-BA19-B8683C5502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eck-list Soins du plan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3920" y="888480"/>
            <a:ext cx="810252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Scotch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Emplanture : largeur 1 à 2 cm, prévoir plusieurs rouleaux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6d4b53"/>
                </a:solidFill>
                <a:latin typeface="Arial"/>
              </a:rPr>
              <a:t>Inutile qu’il colle trop (on démonte plus souvent en concours)</a:t>
            </a:r>
            <a:endParaRPr b="0" i="1" lang="en-US" sz="12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6d4b53"/>
                </a:solidFill>
                <a:latin typeface="Arial"/>
              </a:rPr>
              <a:t>Tip : Brico-Dépôt rouleau adhésif électrique</a:t>
            </a:r>
            <a:endParaRPr b="0" i="1" lang="en-US" sz="12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Adhésif large :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6d4b53"/>
                </a:solidFill>
                <a:latin typeface="Arial"/>
              </a:rPr>
              <a:t>Trappes, petites réparations</a:t>
            </a:r>
            <a:endParaRPr b="0" i="1" lang="en-US" sz="12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Matériel arrimage planeur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Piquets et sangles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Tréteaux (servent aussi pour le montage)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Marteau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Film plastique de cuisine (pour AF)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Scotch de couleur (pour prise statique)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Nettoyage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Traces de scotch : Essence F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Poussière, moucherons : seau, éponges, peau de chamois (synthétique OK)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Verrière : « Pliz sans silicone » ou équivalent + chamoisine propre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Sur la grille, un coup de « Pliz » sur les ailes permet aux moucherons de moins adhérer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6d4b53"/>
                </a:solidFill>
                <a:latin typeface="Arial"/>
              </a:rPr>
              <a:t>Bon pour le moral</a:t>
            </a:r>
            <a:endParaRPr b="0" i="1" lang="en-US" sz="12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Rechange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Pneu et chambre à air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Bombe anti-crevaison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Fil de laine et scotch en secours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61642"/>
                </a:solidFill>
                <a:latin typeface="Arial"/>
              </a:rPr>
              <a:t>Fusibles électriques</a:t>
            </a:r>
            <a:endParaRPr b="0" lang="en-US" sz="14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</cp:lastModifiedBy>
  <dcterms:modified xsi:type="dcterms:W3CDTF">2010-12-01T20:53:25Z</dcterms:modified>
  <cp:revision>199</cp:revision>
  <dc:subject/>
  <dc:title>PowerPoint Presentation</dc:title>
</cp:coreProperties>
</file>