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C11E3-B8DE-4EBC-A3D9-F87AFDFE2A9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EDF54-000A-49F6-BA19-63296765CCF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CF6BA-3BEA-4631-95DD-6CF84778C81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35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39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35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G_2702"/>
          <p:cNvPicPr/>
          <p:nvPr/>
        </p:nvPicPr>
        <p:blipFill>
          <a:blip r:embed="rId2"/>
          <a:srcRect l="15114" t="3282" r="25264" b="370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d4b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WordArt 17"/>
          <p:cNvSpPr txBox="1"/>
          <p:nvPr/>
        </p:nvSpPr>
        <p:spPr>
          <a:xfrm rot="16200000">
            <a:off x="-2339640" y="2660400"/>
            <a:ext cx="5238720" cy="2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eaeaea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mission Sportive FFVV</a:t>
            </a:r>
            <a:endParaRPr b="0" i="1" lang="en-US" sz="1800" spc="1" strike="noStrike">
              <a:ln w="9360">
                <a:solidFill>
                  <a:srgbClr val="eaeaea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" name="Picture 18" descr="logo_ffvv_75"/>
          <p:cNvPicPr/>
          <p:nvPr/>
        </p:nvPicPr>
        <p:blipFill>
          <a:blip r:embed="rId3"/>
          <a:stretch/>
        </p:blipFill>
        <p:spPr>
          <a:xfrm>
            <a:off x="8318520" y="599436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95280" y="6305040"/>
            <a:ext cx="673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467480" y="6308280"/>
            <a:ext cx="1244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8572-470B-4017-83A9-E186EB8398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22AD-BC5A-4726-9C16-5C2E59D823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679560"/>
            <a:ext cx="868680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d9ee12"/>
                </a:solidFill>
                <a:latin typeface="Arial"/>
              </a:rPr>
              <a:t>Cursus Accès Compétition</a:t>
            </a:r>
            <a:br>
              <a:rPr sz="3600"/>
            </a:br>
            <a:r>
              <a:rPr b="1" lang="fr-FR" sz="3600" spc="-1" strike="noStrike">
                <a:solidFill>
                  <a:srgbClr val="d9ee12"/>
                </a:solidFill>
                <a:latin typeface="Arial"/>
              </a:rPr>
              <a:t>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C:\Documents and Settings\Philippe\Mes documents\Commission Sportive FFVV\Images\Image1.jpg"/>
          <p:cNvPicPr/>
          <p:nvPr/>
        </p:nvPicPr>
        <p:blipFill>
          <a:blip r:embed="rId1"/>
          <a:stretch/>
        </p:blipFill>
        <p:spPr>
          <a:xfrm>
            <a:off x="1866960" y="763560"/>
            <a:ext cx="5927760" cy="2684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06440" y="516888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mmission.sportive@ffvv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ttp://sportive.ffvv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93E3-9278-474B-8E59-24379DF7ED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éamb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4280" y="647640"/>
            <a:ext cx="8191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’objectif de ce cursus est de faciliter l’accès à la compétition en introduisant les concepts clé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Des vols de performance en planeur,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Du règlement des compétitions,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Des trucs et astuces pour mieux se préparer et progresser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Son contenu est basé sur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Les stages d’entraînement des Equipes de France définis par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ic Napoléon </a:t>
            </a: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au Pôle France,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L’expérience en compétition de tout niveau,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La participation aux travaux de définition des règlements sportifs,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Le document est issu d’une initiative de l’Equipe Technique Régionale de Bretagne en décembre 2008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ublic visé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Vélivole lâché campagne (ou proche) souhaitant découvrir la compétition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Compétiteurs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e la date 6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1B9F-E6F4-4C77-A9CF-37D7788775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8640" y="1060560"/>
            <a:ext cx="57150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Arial"/>
              </a:rPr>
              <a:t>Thème 01 « Connaitre et utiliser le règlement » 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Une brève histoire de la compétition en vol à voile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Les règlements des compétitions actuelles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Utiliser le règlement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Arial"/>
              </a:rPr>
              <a:t>Thème 02 « Préparation du matériel »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Check-lists pour ne rien oublier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Affuter son équipement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Arial"/>
              </a:rPr>
              <a:t>Thème 03 « Voler plus vite »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Optimiser les phases du circuit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Transiter à la bonne vitesse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Les techniques d’arrivée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Calculateur-GPS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Arial"/>
              </a:rPr>
              <a:t>Thème 4 « Préparation du pilote »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Préparation mentale et gestion des limites (gagner en sécurité)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Préparation de l'épreuve du jour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Vol d'équipe (comment s'aider sans se gêner)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61642"/>
                </a:solidFill>
                <a:latin typeface="Arial"/>
              </a:rPr>
              <a:t>Préparation physique et anti-dopage</a:t>
            </a:r>
            <a:endParaRPr b="0" lang="en-US" sz="1200" spc="-1" strike="noStrike">
              <a:solidFill>
                <a:srgbClr val="161642"/>
              </a:solidFill>
              <a:latin typeface="Arial"/>
            </a:endParaRPr>
          </a:p>
        </p:txBody>
      </p:sp>
      <p:pic>
        <p:nvPicPr>
          <p:cNvPr id="60" name="Picture 22" descr="341"/>
          <p:cNvPicPr/>
          <p:nvPr/>
        </p:nvPicPr>
        <p:blipFill>
          <a:blip r:embed="rId1"/>
          <a:stretch/>
        </p:blipFill>
        <p:spPr>
          <a:xfrm>
            <a:off x="469800" y="965160"/>
            <a:ext cx="29638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0BCC-8AAE-4054-8F06-3CEBA7EA29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ocuments de référ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5597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« La Course en Planeur », Helmut Reichman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ditions Volez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http://www.volez.com/catal/prod-1001-La_Course_en.html 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« Sailplanes », Martin Simon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ditions Eqip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http://www.eqip.de/content_en/start.html 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FFVV : Notes permanent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http://www.ffvv.org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NP4.1 : Règlement des compétitions françaises, édition 2009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Présentations Sécurité de la Commission Sportiv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Guide du Directeur de la Compétition version 1.01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IGC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http://www.fai.org/gliding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Code sportif section 3 et son annexe A d’octobre 2008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uteurs et Contributeu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hilippe de Péch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ric Napolé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ierre Bru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arc Seretti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ouis Bouderliq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ean-Michel Horrenberg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Pour toute remarque ou suggestion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ission.sportive@ffvv.org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Espace réservé de la date 3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54BA-F9E6-48D6-B778-2858AF6200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ippe de Péchy</dc:creator>
  <dc:description/>
  <dc:language>en-US</dc:language>
  <cp:lastModifiedBy>Philippe</cp:lastModifiedBy>
  <dcterms:modified xsi:type="dcterms:W3CDTF">2010-12-01T20:53:04Z</dcterms:modified>
  <cp:revision>156</cp:revision>
  <dc:subject/>
  <dc:title>PowerPoint Presentation</dc:title>
</cp:coreProperties>
</file>