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wmf" ContentType="image/x-wm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471F5-CBE0-48D2-A329-8DF89F2BC1BA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EED6B-B32D-4F7B-BEBE-A5B83C02D8D1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24C42-A98F-4304-8BDD-BC7175CF0A43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3920" y="3607200"/>
            <a:ext cx="81025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5800" y="99072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3920" y="360720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5800" y="360720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26089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23520" y="990720"/>
            <a:ext cx="26089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3480" y="990720"/>
            <a:ext cx="26089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83920" y="3607200"/>
            <a:ext cx="26089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23520" y="3607200"/>
            <a:ext cx="26089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3480" y="3607200"/>
            <a:ext cx="26089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39538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5800" y="990720"/>
            <a:ext cx="39538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5800" y="990720"/>
            <a:ext cx="39538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83920" y="360720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39538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5800" y="99072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5800" y="360720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5800" y="990720"/>
            <a:ext cx="395388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83920" y="3607200"/>
            <a:ext cx="8102520" cy="23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IMG_2702"/>
          <p:cNvPicPr/>
          <p:nvPr/>
        </p:nvPicPr>
        <p:blipFill>
          <a:blip r:embed="rId2"/>
          <a:srcRect l="15114" t="3282" r="25264" b="370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d4b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WordArt 17"/>
          <p:cNvSpPr txBox="1"/>
          <p:nvPr/>
        </p:nvSpPr>
        <p:spPr>
          <a:xfrm rot="16200000">
            <a:off x="-2339640" y="2660400"/>
            <a:ext cx="5238720" cy="29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eaeaea"/>
                  </a:solidFill>
                  <a:miter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mmission Sportive FFVV</a:t>
            </a:r>
            <a:endParaRPr b="0" i="1" lang="en-US" sz="1800" spc="1" strike="noStrike">
              <a:ln w="9360">
                <a:solidFill>
                  <a:srgbClr val="eaeaea"/>
                </a:solidFill>
                <a:miter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" name="Picture 18" descr="logo_ffvv_75"/>
          <p:cNvPicPr/>
          <p:nvPr/>
        </p:nvPicPr>
        <p:blipFill>
          <a:blip r:embed="rId3"/>
          <a:stretch/>
        </p:blipFill>
        <p:spPr>
          <a:xfrm>
            <a:off x="8318520" y="5994360"/>
            <a:ext cx="787320" cy="787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1295280" y="6305040"/>
            <a:ext cx="673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7467480" y="6308280"/>
            <a:ext cx="1244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BFD0-5927-4F02-87BA-88228196601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dopage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1E34-93DE-451E-B4BD-DD5AEC55FF1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679560"/>
            <a:ext cx="8686800" cy="13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d9ee12"/>
                </a:solidFill>
                <a:latin typeface="Arial"/>
              </a:rPr>
              <a:t>Cursus Accès Compétition</a:t>
            </a:r>
            <a:br>
              <a:rPr sz="3600"/>
            </a:br>
            <a:r>
              <a:rPr b="1" lang="fr-FR" sz="3600" spc="-1" strike="noStrike">
                <a:solidFill>
                  <a:srgbClr val="d9ee12"/>
                </a:solidFill>
                <a:latin typeface="Arial"/>
              </a:rPr>
              <a:t>04 – Préparation du pilo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9" descr="C:\Documents and Settings\Philippe\Mes documents\Commission Sportive FFVV\Images\Image1.jpg"/>
          <p:cNvPicPr/>
          <p:nvPr/>
        </p:nvPicPr>
        <p:blipFill>
          <a:blip r:embed="rId1"/>
          <a:stretch/>
        </p:blipFill>
        <p:spPr>
          <a:xfrm>
            <a:off x="1866960" y="763560"/>
            <a:ext cx="5927760" cy="26845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406440" y="5168880"/>
            <a:ext cx="87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mmission.sportive@ffvv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http://sportive.ffvv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C4A3-3128-4F45-80F6-D0EC71E2972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2714760" y="1881360"/>
            <a:ext cx="1465200" cy="3744720"/>
          </a:xfrm>
          <a:prstGeom prst="rect">
            <a:avLst/>
          </a:prstGeom>
          <a:solidFill>
            <a:srgbClr val="ff99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5648400" y="1865160"/>
            <a:ext cx="1465200" cy="3745080"/>
          </a:xfrm>
          <a:prstGeom prst="rect">
            <a:avLst/>
          </a:prstGeom>
          <a:solidFill>
            <a:srgbClr val="ff99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4183200" y="1878120"/>
            <a:ext cx="1465200" cy="3744720"/>
          </a:xfrm>
          <a:prstGeom prst="rect">
            <a:avLst/>
          </a:prstGeom>
          <a:solidFill>
            <a:srgbClr val="00ff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tress : ami ou ennem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On cherchera à se placer à l’optimum de sa performance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61642"/>
                </a:solidFill>
                <a:latin typeface="Arial"/>
              </a:rPr>
              <a:t>Et surtout à savoir où l’on se situe</a:t>
            </a: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2046240" y="5423040"/>
            <a:ext cx="5457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 flipV="1">
            <a:off x="2452680" y="2026800"/>
            <a:ext cx="0" cy="358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6954840" y="5584680"/>
            <a:ext cx="19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809640" y="1839960"/>
            <a:ext cx="19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2700360" y="1963800"/>
            <a:ext cx="4411800" cy="3184560"/>
          </a:xfrm>
          <a:custGeom>
            <a:avLst/>
            <a:gdLst>
              <a:gd name="textAreaLeft" fmla="*/ 0 w 4411800"/>
              <a:gd name="textAreaRight" fmla="*/ 4412160 w 4411800"/>
              <a:gd name="textAreaTop" fmla="*/ 0 h 3184560"/>
              <a:gd name="textAreaBottom" fmla="*/ 3184920 h 3184560"/>
            </a:gdLst>
            <a:ahLst/>
            <a:rect l="textAreaLeft" t="textAreaTop" r="textAreaRight" b="textAreaBottom"/>
            <a:pathLst>
              <a:path w="2779" h="2006">
                <a:moveTo>
                  <a:pt x="0" y="2006"/>
                </a:moveTo>
                <a:cubicBezTo>
                  <a:pt x="458" y="1006"/>
                  <a:pt x="917" y="6"/>
                  <a:pt x="1380" y="3"/>
                </a:cubicBezTo>
                <a:cubicBezTo>
                  <a:pt x="1843" y="0"/>
                  <a:pt x="2549" y="1658"/>
                  <a:pt x="2779" y="1987"/>
                </a:cubicBezTo>
              </a:path>
            </a:pathLst>
          </a:custGeom>
          <a:noFill/>
          <a:ln w="507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3252960" y="3941640"/>
            <a:ext cx="1031760" cy="13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ucun motiv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ucune appréhension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onfiance excessiv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ésinvo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5600880" y="4056120"/>
            <a:ext cx="13363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rop de pression sur le résult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oute permanent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anque de confianc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s de prépa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4583160" y="2138400"/>
            <a:ext cx="13366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onfiant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rein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Vigilant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épar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91F2-79F8-43F7-AB8C-1D01BA2010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1119240" y="3260880"/>
            <a:ext cx="2639880" cy="1814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117440" y="1359000"/>
            <a:ext cx="2641680" cy="1901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Risque sportif vs Risque physiq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111200" y="990720"/>
            <a:ext cx="457524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On prendra aussi peu de  risques physiques en compétition qu’en vol club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On ne se met jamais en situation de danger physique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Le risque sportif ne doit pas impliquer de danger physique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Si ça se passe mal, on ne risque que de perdre des points à un jeu.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Mais on pourra rejouer!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Ex : je tente un départ tardif en espérant avoir de meilleure conditions. 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</p:txBody>
      </p:sp>
      <p:sp>
        <p:nvSpPr>
          <p:cNvPr id="99" name="Oval 6"/>
          <p:cNvSpPr/>
          <p:nvPr/>
        </p:nvSpPr>
        <p:spPr>
          <a:xfrm>
            <a:off x="1521000" y="3819600"/>
            <a:ext cx="1800000" cy="1104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596960" y="2103480"/>
            <a:ext cx="1611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Zone de vol dangeure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1609560" y="3228840"/>
            <a:ext cx="1611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Zone de vol en sécur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595520" y="4170240"/>
            <a:ext cx="16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isque spor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E85A-7BBD-48D0-98A3-E435EAEB8B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Vol en paqu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En compétition, on vole plus souvent à proximité d’autres planeur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Vigilance accrue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En paquets :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En spirale :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On effectue la ressource avant d’entrer dans l’ascendance et on ne coupe pas la trajectoire.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Tout le monde doit spiraler dans le même sens.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On surveille l’intérieur et l’extérieur de sa position.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On ne vole pas trop lentement.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On se garde une marge pour pouvoir dégager vers l’extérieur en sécurité.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On évite de faire l’intérieur.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En transition :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En thermique pur : on se met côte à côte pour ratisser et trouver des ascendances.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6d4b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9DAB-082E-4750-A6C2-67F418B22DB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ép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Restez à bonne distance des barbule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Pour voir et être vu (anti-collision).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Si l’on veut être discret, on s’éloignera du point de départ.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ssayez de rester au vent de la porte de départ pour que la spirale vous pousse vers la port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Vous serez ainsi en bonne position pour partir à tout moment.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C57D-2090-44C0-B399-51E69C384B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rrivé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 calculateur d’arrivée McCready ne vous garantit pas de rentre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Il sert à gagner du temps.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On s’efforcera de conserver le local de champ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Au cas où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683B-45A6-4E0A-AD02-EF1F00AD62C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rrivée en paque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Se placer sur la fréquence arrivée du concours, augmenter le volume et fermer la ventilation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61642"/>
                </a:solidFill>
                <a:latin typeface="Arial"/>
              </a:rPr>
              <a:t>Vous pouvez demander le vent actuel à l’organisation.</a:t>
            </a:r>
            <a:endParaRPr b="0" lang="en-US" sz="18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S’annoncer à l’endroit de référence (souvent au km 10) en précisant « directe » ou « passage »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61642"/>
                </a:solidFill>
                <a:latin typeface="Arial"/>
              </a:rPr>
              <a:t>L’organisation et les autres concurrents peuvent alors gérer votre présence.</a:t>
            </a:r>
            <a:endParaRPr b="0" lang="en-US" sz="18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Si un planeur est juste devant vous, se décaler d’au moins une envergure :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61642"/>
                </a:solidFill>
                <a:latin typeface="Arial"/>
              </a:rPr>
              <a:t>Sécurité + évite les ballasts</a:t>
            </a:r>
            <a:endParaRPr b="0" lang="en-US" sz="18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Au seuil de piste si sa vitesse est :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61642"/>
                </a:solidFill>
                <a:latin typeface="Arial"/>
              </a:rPr>
              <a:t>&gt; 180km/h : passage</a:t>
            </a:r>
            <a:endParaRPr b="0" lang="en-US" sz="1800" spc="-1" strike="noStrike">
              <a:solidFill>
                <a:srgbClr val="161642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6d4b53"/>
                </a:solidFill>
                <a:latin typeface="Arial"/>
              </a:rPr>
              <a:t>Ressource douce, sortie du train, puis intégration du tour de piste.</a:t>
            </a:r>
            <a:endParaRPr b="0" i="1" lang="en-US" sz="1600" spc="-1" strike="noStrike">
              <a:solidFill>
                <a:srgbClr val="6d4b5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61642"/>
                </a:solidFill>
                <a:latin typeface="Arial"/>
              </a:rPr>
              <a:t>&lt; 180km/h : directe</a:t>
            </a:r>
            <a:endParaRPr b="0" lang="en-US" sz="1800" spc="-1" strike="noStrike">
              <a:solidFill>
                <a:srgbClr val="161642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6d4b53"/>
                </a:solidFill>
                <a:latin typeface="Arial"/>
              </a:rPr>
              <a:t>Sortie du train, sortie très progressive des aérofreins en tirant légèrement sur le manche pour casser la vitesse.</a:t>
            </a:r>
            <a:endParaRPr b="0" i="1" lang="en-US" sz="1600" spc="-1" strike="noStrike">
              <a:solidFill>
                <a:srgbClr val="6d4b5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6d4b53"/>
                </a:solidFill>
                <a:latin typeface="Arial"/>
              </a:rPr>
              <a:t>Par défaut posez-vous long, sans changer de cap afin de laisser de la place aux autres.</a:t>
            </a:r>
            <a:endParaRPr b="0" i="1" lang="en-US" sz="1600" spc="-1" strike="noStrike">
              <a:solidFill>
                <a:srgbClr val="6d4b5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61642"/>
                </a:solidFill>
                <a:latin typeface="Arial"/>
              </a:rPr>
              <a:t>Dégager en fin de roulage, sans couper la trajectoire des autres.</a:t>
            </a:r>
            <a:endParaRPr b="0" lang="en-US" sz="1800" spc="-1" strike="noStrike">
              <a:solidFill>
                <a:srgbClr val="16164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A227-7148-4250-BD8F-EC159CCDFAD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dangers du pass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7000" y="91764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Le principal danger du passage est </a:t>
            </a:r>
            <a:br>
              <a:rPr sz="2400"/>
            </a:br>
            <a:r>
              <a:rPr b="1" lang="fr-FR" sz="2400" spc="-1" strike="noStrike" u="sng">
                <a:solidFill>
                  <a:srgbClr val="ffff66"/>
                </a:solidFill>
                <a:uFillTx/>
                <a:latin typeface="Arial"/>
              </a:rPr>
              <a:t>la collision avec un autre planeur durant la ressource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Avant d’effectuer la ressource, soyez certain que l’espace est libre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Le second danger est le manque de vitesse :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A proscrire : altitude faible après la ressource, virage à basse altitude avec faible vitesse.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Plus on est bas en tour de piste, plus il est vital d’avoir de la vitesse.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Le troisième danger est l’altitude :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Un passage à 15 mètres est plus joli à regarder que « par terre ».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7031-EE97-4C7A-A074-A15F2F02403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assage ou direct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e choix sera dicté par sa vitesse au franchissement de la lign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A anticiper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a directe est plus facile à gérer pour la sécurité et aura fait gagner du temps.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Tous les grands compétiteurs recherchent une directe après franchissement de ligne autour de 130-140km/h.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Un passage défoul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Restez concentré jusqu’à la fin du roulage!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2C0D-00A1-493B-B5A7-DC21FF5FF4C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rrivée : toujours sur plan consta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Sauter les obstacles = DANGER!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61642"/>
                </a:solidFill>
                <a:latin typeface="Arial"/>
              </a:rPr>
              <a:t>Ligne électrique peu visible, personnes, etc.</a:t>
            </a:r>
            <a:endParaRPr b="0" lang="en-US" sz="18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Les arrivées en effet de sol relèvent de la légende vélivole et des discussions de bar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164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1554120" y="5780160"/>
            <a:ext cx="7023240" cy="0"/>
          </a:xfrm>
          <a:prstGeom prst="line">
            <a:avLst/>
          </a:prstGeom>
          <a:ln w="66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ree"/>
          <p:cNvSpPr/>
          <p:nvPr/>
        </p:nvSpPr>
        <p:spPr>
          <a:xfrm>
            <a:off x="4667400" y="4675320"/>
            <a:ext cx="661680" cy="1055520"/>
          </a:xfrm>
          <a:custGeom>
            <a:avLst/>
            <a:gdLst>
              <a:gd name="textAreaLeft" fmla="*/ 23040 w 661680"/>
              <a:gd name="textAreaRight" fmla="*/ 645480 w 661680"/>
              <a:gd name="textAreaTop" fmla="*/ 1097280 h 1055520"/>
              <a:gd name="textAreaBottom" fmla="*/ 1382400 h 1055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MCj02788040000[1]"/>
          <p:cNvPicPr/>
          <p:nvPr/>
        </p:nvPicPr>
        <p:blipFill>
          <a:blip r:embed="rId1"/>
          <a:stretch/>
        </p:blipFill>
        <p:spPr>
          <a:xfrm>
            <a:off x="8061480" y="4861080"/>
            <a:ext cx="685800" cy="915840"/>
          </a:xfrm>
          <a:prstGeom prst="rect">
            <a:avLst/>
          </a:prstGeom>
          <a:ln w="0">
            <a:noFill/>
          </a:ln>
        </p:spPr>
      </p:pic>
      <p:sp>
        <p:nvSpPr>
          <p:cNvPr id="127" name="Freeform 7"/>
          <p:cNvSpPr/>
          <p:nvPr/>
        </p:nvSpPr>
        <p:spPr>
          <a:xfrm>
            <a:off x="2468520" y="2805120"/>
            <a:ext cx="5500800" cy="2949480"/>
          </a:xfrm>
          <a:custGeom>
            <a:avLst/>
            <a:gdLst>
              <a:gd name="textAreaLeft" fmla="*/ 0 w 5500800"/>
              <a:gd name="textAreaRight" fmla="*/ 5501160 w 5500800"/>
              <a:gd name="textAreaTop" fmla="*/ 0 h 2949480"/>
              <a:gd name="textAreaBottom" fmla="*/ 2949840 h 2949480"/>
            </a:gdLst>
            <a:ahLst/>
            <a:rect l="textAreaLeft" t="textAreaTop" r="textAreaRight" b="textAreaBottom"/>
            <a:pathLst>
              <a:path w="4041" h="1858">
                <a:moveTo>
                  <a:pt x="0" y="0"/>
                </a:moveTo>
                <a:cubicBezTo>
                  <a:pt x="552" y="257"/>
                  <a:pt x="1105" y="514"/>
                  <a:pt x="1673" y="796"/>
                </a:cubicBezTo>
                <a:cubicBezTo>
                  <a:pt x="2241" y="1078"/>
                  <a:pt x="3015" y="1526"/>
                  <a:pt x="3410" y="1692"/>
                </a:cubicBezTo>
                <a:cubicBezTo>
                  <a:pt x="3805" y="1858"/>
                  <a:pt x="3936" y="1760"/>
                  <a:pt x="4041" y="1792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8"/>
          <p:cNvSpPr/>
          <p:nvPr/>
        </p:nvSpPr>
        <p:spPr>
          <a:xfrm>
            <a:off x="1916280" y="2994120"/>
            <a:ext cx="5313240" cy="2655720"/>
          </a:xfrm>
          <a:custGeom>
            <a:avLst/>
            <a:gdLst>
              <a:gd name="textAreaLeft" fmla="*/ 0 w 5313240"/>
              <a:gd name="textAreaRight" fmla="*/ 5313600 w 5313240"/>
              <a:gd name="textAreaTop" fmla="*/ 0 h 2655720"/>
              <a:gd name="textAreaBottom" fmla="*/ 2656080 h 2655720"/>
            </a:gdLst>
            <a:ahLst/>
            <a:rect l="textAreaLeft" t="textAreaTop" r="textAreaRight" b="textAreaBottom"/>
            <a:pathLst>
              <a:path w="3347" h="1673">
                <a:moveTo>
                  <a:pt x="0" y="0"/>
                </a:moveTo>
                <a:cubicBezTo>
                  <a:pt x="359" y="476"/>
                  <a:pt x="719" y="952"/>
                  <a:pt x="960" y="1170"/>
                </a:cubicBezTo>
                <a:cubicBezTo>
                  <a:pt x="1201" y="1388"/>
                  <a:pt x="1302" y="1340"/>
                  <a:pt x="1445" y="1308"/>
                </a:cubicBezTo>
                <a:cubicBezTo>
                  <a:pt x="1588" y="1276"/>
                  <a:pt x="1698" y="1021"/>
                  <a:pt x="1820" y="978"/>
                </a:cubicBezTo>
                <a:cubicBezTo>
                  <a:pt x="1942" y="935"/>
                  <a:pt x="2019" y="957"/>
                  <a:pt x="2176" y="1052"/>
                </a:cubicBezTo>
                <a:cubicBezTo>
                  <a:pt x="2333" y="1147"/>
                  <a:pt x="2567" y="1442"/>
                  <a:pt x="2762" y="1545"/>
                </a:cubicBezTo>
                <a:cubicBezTo>
                  <a:pt x="2957" y="1648"/>
                  <a:pt x="3253" y="1650"/>
                  <a:pt x="3347" y="167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9"/>
          <p:cNvGrpSpPr/>
          <p:nvPr/>
        </p:nvGrpSpPr>
        <p:grpSpPr>
          <a:xfrm>
            <a:off x="933480" y="2593080"/>
            <a:ext cx="1553400" cy="591840"/>
            <a:chOff x="933480" y="2593080"/>
            <a:chExt cx="1553400" cy="591840"/>
          </a:xfrm>
        </p:grpSpPr>
        <p:sp>
          <p:nvSpPr>
            <p:cNvPr id="130" name="Oval 10"/>
            <p:cNvSpPr/>
            <p:nvPr/>
          </p:nvSpPr>
          <p:spPr>
            <a:xfrm rot="468000">
              <a:off x="1030320" y="2954160"/>
              <a:ext cx="27360" cy="37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5f5f5f"/>
                </a:gs>
                <a:gs pos="100000">
                  <a:srgbClr val="000000"/>
                </a:gs>
              </a:gsLst>
              <a:lin ang="2700000"/>
            </a:gradFill>
            <a:ln w="32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1"/>
            <p:cNvSpPr/>
            <p:nvPr/>
          </p:nvSpPr>
          <p:spPr>
            <a:xfrm rot="468000">
              <a:off x="1908360" y="3087360"/>
              <a:ext cx="61920" cy="853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5f5f5f"/>
                </a:gs>
                <a:gs pos="100000">
                  <a:srgbClr val="000000"/>
                </a:gs>
              </a:gsLst>
              <a:lin ang="2700000"/>
            </a:gradFill>
            <a:ln w="32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2"/>
            <p:cNvSpPr/>
            <p:nvPr/>
          </p:nvSpPr>
          <p:spPr>
            <a:xfrm rot="468000">
              <a:off x="2271600" y="3111120"/>
              <a:ext cx="38520" cy="53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5f5f5f"/>
                </a:gs>
                <a:gs pos="100000">
                  <a:srgbClr val="000000"/>
                </a:gs>
              </a:gsLst>
              <a:lin ang="2700000"/>
            </a:gradFill>
            <a:ln w="32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3"/>
            <p:cNvSpPr/>
            <p:nvPr/>
          </p:nvSpPr>
          <p:spPr>
            <a:xfrm rot="468000">
              <a:off x="952200" y="2704320"/>
              <a:ext cx="1515960" cy="379440"/>
            </a:xfrm>
            <a:custGeom>
              <a:avLst/>
              <a:gdLst>
                <a:gd name="textAreaLeft" fmla="*/ 0 w 1515960"/>
                <a:gd name="textAreaRight" fmla="*/ 1516320 w 151596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1884" h="339">
                  <a:moveTo>
                    <a:pt x="273" y="273"/>
                  </a:moveTo>
                  <a:cubicBezTo>
                    <a:pt x="273" y="273"/>
                    <a:pt x="849" y="243"/>
                    <a:pt x="1053" y="174"/>
                  </a:cubicBezTo>
                  <a:cubicBezTo>
                    <a:pt x="1185" y="140"/>
                    <a:pt x="1254" y="132"/>
                    <a:pt x="1254" y="132"/>
                  </a:cubicBezTo>
                  <a:cubicBezTo>
                    <a:pt x="1416" y="111"/>
                    <a:pt x="1551" y="135"/>
                    <a:pt x="1551" y="135"/>
                  </a:cubicBezTo>
                  <a:cubicBezTo>
                    <a:pt x="1551" y="135"/>
                    <a:pt x="1734" y="171"/>
                    <a:pt x="1884" y="267"/>
                  </a:cubicBezTo>
                  <a:cubicBezTo>
                    <a:pt x="1731" y="330"/>
                    <a:pt x="1536" y="336"/>
                    <a:pt x="1536" y="336"/>
                  </a:cubicBezTo>
                  <a:lnTo>
                    <a:pt x="1242" y="339"/>
                  </a:lnTo>
                  <a:lnTo>
                    <a:pt x="882" y="318"/>
                  </a:lnTo>
                  <a:cubicBezTo>
                    <a:pt x="691" y="315"/>
                    <a:pt x="276" y="309"/>
                    <a:pt x="93" y="321"/>
                  </a:cubicBezTo>
                  <a:cubicBezTo>
                    <a:pt x="46" y="312"/>
                    <a:pt x="0" y="303"/>
                    <a:pt x="0" y="303"/>
                  </a:cubicBezTo>
                  <a:lnTo>
                    <a:pt x="15" y="0"/>
                  </a:lnTo>
                  <a:cubicBezTo>
                    <a:pt x="15" y="0"/>
                    <a:pt x="90" y="1"/>
                    <a:pt x="165" y="3"/>
                  </a:cubicBezTo>
                  <a:cubicBezTo>
                    <a:pt x="219" y="138"/>
                    <a:pt x="273" y="273"/>
                    <a:pt x="273" y="273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4"/>
            <p:cNvSpPr/>
            <p:nvPr/>
          </p:nvSpPr>
          <p:spPr>
            <a:xfrm rot="468000">
              <a:off x="1786320" y="2954520"/>
              <a:ext cx="204840" cy="4680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255" h="42">
                  <a:moveTo>
                    <a:pt x="16" y="42"/>
                  </a:moveTo>
                  <a:cubicBezTo>
                    <a:pt x="0" y="38"/>
                    <a:pt x="94" y="10"/>
                    <a:pt x="127" y="5"/>
                  </a:cubicBezTo>
                  <a:cubicBezTo>
                    <a:pt x="161" y="0"/>
                    <a:pt x="201" y="4"/>
                    <a:pt x="217" y="9"/>
                  </a:cubicBezTo>
                  <a:cubicBezTo>
                    <a:pt x="233" y="14"/>
                    <a:pt x="255" y="27"/>
                    <a:pt x="222" y="32"/>
                  </a:cubicBezTo>
                  <a:cubicBezTo>
                    <a:pt x="189" y="37"/>
                    <a:pt x="114" y="38"/>
                    <a:pt x="16" y="42"/>
                  </a:cubicBezTo>
                  <a:close/>
                </a:path>
              </a:pathLst>
            </a:custGeom>
            <a:noFill/>
            <a:ln w="64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5"/>
            <p:cNvSpPr/>
            <p:nvPr/>
          </p:nvSpPr>
          <p:spPr>
            <a:xfrm rot="468000">
              <a:off x="1967040" y="2901960"/>
              <a:ext cx="374400" cy="12744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466" h="114">
                  <a:moveTo>
                    <a:pt x="0" y="10"/>
                  </a:moveTo>
                  <a:cubicBezTo>
                    <a:pt x="0" y="10"/>
                    <a:pt x="15" y="54"/>
                    <a:pt x="46" y="99"/>
                  </a:cubicBezTo>
                  <a:cubicBezTo>
                    <a:pt x="96" y="114"/>
                    <a:pt x="301" y="97"/>
                    <a:pt x="424" y="111"/>
                  </a:cubicBezTo>
                  <a:cubicBezTo>
                    <a:pt x="454" y="96"/>
                    <a:pt x="466" y="70"/>
                    <a:pt x="466" y="70"/>
                  </a:cubicBezTo>
                  <a:cubicBezTo>
                    <a:pt x="406" y="48"/>
                    <a:pt x="390" y="39"/>
                    <a:pt x="276" y="12"/>
                  </a:cubicBezTo>
                  <a:cubicBezTo>
                    <a:pt x="140" y="0"/>
                    <a:pt x="123" y="0"/>
                    <a:pt x="0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dddddd">
                    <a:alpha val="80000"/>
                  </a:srgbClr>
                </a:gs>
                <a:gs pos="50000">
                  <a:srgbClr val="bbe0e3">
                    <a:alpha val="80000"/>
                  </a:srgbClr>
                </a:gs>
                <a:gs pos="100000">
                  <a:srgbClr val="dddddd">
                    <a:alpha val="80000"/>
                  </a:srgbClr>
                </a:gs>
              </a:gsLst>
              <a:lin ang="2700000"/>
            </a:gradFill>
            <a:ln w="64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6"/>
            <p:cNvSpPr/>
            <p:nvPr/>
          </p:nvSpPr>
          <p:spPr>
            <a:xfrm rot="468000">
              <a:off x="1009800" y="2613600"/>
              <a:ext cx="24480" cy="35856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30" h="320">
                  <a:moveTo>
                    <a:pt x="0" y="0"/>
                  </a:moveTo>
                  <a:lnTo>
                    <a:pt x="30" y="320"/>
                  </a:lnTo>
                </a:path>
              </a:pathLst>
            </a:custGeom>
            <a:noFill/>
            <a:ln w="64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 rot="468000">
              <a:off x="1877760" y="3112560"/>
              <a:ext cx="101520" cy="190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6" h="17">
                  <a:moveTo>
                    <a:pt x="0" y="0"/>
                  </a:moveTo>
                  <a:lnTo>
                    <a:pt x="0" y="15"/>
                  </a:lnTo>
                  <a:lnTo>
                    <a:pt x="126" y="17"/>
                  </a:lnTo>
                  <a:lnTo>
                    <a:pt x="126" y="5"/>
                  </a:lnTo>
                </a:path>
              </a:pathLst>
            </a:custGeom>
            <a:solidFill>
              <a:srgbClr val="ffffff"/>
            </a:solidFill>
            <a:ln w="64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 rot="468000">
              <a:off x="1029600" y="2599920"/>
              <a:ext cx="106560" cy="291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3" h="26">
                  <a:moveTo>
                    <a:pt x="1" y="14"/>
                  </a:moveTo>
                  <a:cubicBezTo>
                    <a:pt x="0" y="11"/>
                    <a:pt x="88" y="6"/>
                    <a:pt x="108" y="6"/>
                  </a:cubicBezTo>
                  <a:cubicBezTo>
                    <a:pt x="130" y="0"/>
                    <a:pt x="133" y="22"/>
                    <a:pt x="115" y="23"/>
                  </a:cubicBezTo>
                  <a:cubicBezTo>
                    <a:pt x="49" y="26"/>
                    <a:pt x="1" y="14"/>
                    <a:pt x="1" y="14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19"/>
          <p:cNvGrpSpPr/>
          <p:nvPr/>
        </p:nvGrpSpPr>
        <p:grpSpPr>
          <a:xfrm>
            <a:off x="1498680" y="2345400"/>
            <a:ext cx="1553400" cy="592200"/>
            <a:chOff x="1498680" y="2345400"/>
            <a:chExt cx="1553400" cy="592200"/>
          </a:xfrm>
        </p:grpSpPr>
        <p:sp>
          <p:nvSpPr>
            <p:cNvPr id="140" name="Oval 20"/>
            <p:cNvSpPr/>
            <p:nvPr/>
          </p:nvSpPr>
          <p:spPr>
            <a:xfrm rot="468000">
              <a:off x="1595520" y="2706840"/>
              <a:ext cx="27360" cy="37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5f5f5f"/>
                </a:gs>
                <a:gs pos="100000">
                  <a:srgbClr val="000000"/>
                </a:gs>
              </a:gsLst>
              <a:lin ang="2700000"/>
            </a:gradFill>
            <a:ln w="32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1"/>
            <p:cNvSpPr/>
            <p:nvPr/>
          </p:nvSpPr>
          <p:spPr>
            <a:xfrm rot="468000">
              <a:off x="2473560" y="2840040"/>
              <a:ext cx="61920" cy="853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5f5f5f"/>
                </a:gs>
                <a:gs pos="100000">
                  <a:srgbClr val="000000"/>
                </a:gs>
              </a:gsLst>
              <a:lin ang="2700000"/>
            </a:gradFill>
            <a:ln w="32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2"/>
            <p:cNvSpPr/>
            <p:nvPr/>
          </p:nvSpPr>
          <p:spPr>
            <a:xfrm rot="468000">
              <a:off x="2836800" y="2863800"/>
              <a:ext cx="38520" cy="53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5f5f5f"/>
                </a:gs>
                <a:gs pos="100000">
                  <a:srgbClr val="000000"/>
                </a:gs>
              </a:gsLst>
              <a:lin ang="2700000"/>
            </a:gradFill>
            <a:ln w="32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3"/>
            <p:cNvSpPr/>
            <p:nvPr/>
          </p:nvSpPr>
          <p:spPr>
            <a:xfrm rot="468000">
              <a:off x="1517400" y="2456640"/>
              <a:ext cx="1515960" cy="379800"/>
            </a:xfrm>
            <a:custGeom>
              <a:avLst/>
              <a:gdLst>
                <a:gd name="textAreaLeft" fmla="*/ 0 w 1515960"/>
                <a:gd name="textAreaRight" fmla="*/ 1516320 w 151596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1884" h="339">
                  <a:moveTo>
                    <a:pt x="273" y="273"/>
                  </a:moveTo>
                  <a:cubicBezTo>
                    <a:pt x="273" y="273"/>
                    <a:pt x="849" y="243"/>
                    <a:pt x="1053" y="174"/>
                  </a:cubicBezTo>
                  <a:cubicBezTo>
                    <a:pt x="1185" y="140"/>
                    <a:pt x="1254" y="132"/>
                    <a:pt x="1254" y="132"/>
                  </a:cubicBezTo>
                  <a:cubicBezTo>
                    <a:pt x="1416" y="111"/>
                    <a:pt x="1551" y="135"/>
                    <a:pt x="1551" y="135"/>
                  </a:cubicBezTo>
                  <a:cubicBezTo>
                    <a:pt x="1551" y="135"/>
                    <a:pt x="1734" y="171"/>
                    <a:pt x="1884" y="267"/>
                  </a:cubicBezTo>
                  <a:cubicBezTo>
                    <a:pt x="1731" y="330"/>
                    <a:pt x="1536" y="336"/>
                    <a:pt x="1536" y="336"/>
                  </a:cubicBezTo>
                  <a:lnTo>
                    <a:pt x="1242" y="339"/>
                  </a:lnTo>
                  <a:lnTo>
                    <a:pt x="882" y="318"/>
                  </a:lnTo>
                  <a:cubicBezTo>
                    <a:pt x="691" y="315"/>
                    <a:pt x="276" y="309"/>
                    <a:pt x="93" y="321"/>
                  </a:cubicBezTo>
                  <a:cubicBezTo>
                    <a:pt x="46" y="312"/>
                    <a:pt x="0" y="303"/>
                    <a:pt x="0" y="303"/>
                  </a:cubicBezTo>
                  <a:lnTo>
                    <a:pt x="15" y="0"/>
                  </a:lnTo>
                  <a:cubicBezTo>
                    <a:pt x="15" y="0"/>
                    <a:pt x="90" y="1"/>
                    <a:pt x="165" y="3"/>
                  </a:cubicBezTo>
                  <a:cubicBezTo>
                    <a:pt x="219" y="138"/>
                    <a:pt x="273" y="273"/>
                    <a:pt x="273" y="273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4"/>
            <p:cNvSpPr/>
            <p:nvPr/>
          </p:nvSpPr>
          <p:spPr>
            <a:xfrm rot="468000">
              <a:off x="2351520" y="2706840"/>
              <a:ext cx="204840" cy="4680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255" h="42">
                  <a:moveTo>
                    <a:pt x="16" y="42"/>
                  </a:moveTo>
                  <a:cubicBezTo>
                    <a:pt x="0" y="38"/>
                    <a:pt x="94" y="10"/>
                    <a:pt x="127" y="5"/>
                  </a:cubicBezTo>
                  <a:cubicBezTo>
                    <a:pt x="161" y="0"/>
                    <a:pt x="201" y="4"/>
                    <a:pt x="217" y="9"/>
                  </a:cubicBezTo>
                  <a:cubicBezTo>
                    <a:pt x="233" y="14"/>
                    <a:pt x="255" y="27"/>
                    <a:pt x="222" y="32"/>
                  </a:cubicBezTo>
                  <a:cubicBezTo>
                    <a:pt x="189" y="37"/>
                    <a:pt x="114" y="38"/>
                    <a:pt x="16" y="42"/>
                  </a:cubicBezTo>
                  <a:close/>
                </a:path>
              </a:pathLst>
            </a:custGeom>
            <a:noFill/>
            <a:ln w="64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5"/>
            <p:cNvSpPr/>
            <p:nvPr/>
          </p:nvSpPr>
          <p:spPr>
            <a:xfrm rot="468000">
              <a:off x="2532240" y="2654640"/>
              <a:ext cx="374400" cy="12744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466" h="114">
                  <a:moveTo>
                    <a:pt x="0" y="10"/>
                  </a:moveTo>
                  <a:cubicBezTo>
                    <a:pt x="0" y="10"/>
                    <a:pt x="15" y="54"/>
                    <a:pt x="46" y="99"/>
                  </a:cubicBezTo>
                  <a:cubicBezTo>
                    <a:pt x="96" y="114"/>
                    <a:pt x="301" y="97"/>
                    <a:pt x="424" y="111"/>
                  </a:cubicBezTo>
                  <a:cubicBezTo>
                    <a:pt x="454" y="96"/>
                    <a:pt x="466" y="70"/>
                    <a:pt x="466" y="70"/>
                  </a:cubicBezTo>
                  <a:cubicBezTo>
                    <a:pt x="406" y="48"/>
                    <a:pt x="390" y="39"/>
                    <a:pt x="276" y="12"/>
                  </a:cubicBezTo>
                  <a:cubicBezTo>
                    <a:pt x="140" y="0"/>
                    <a:pt x="123" y="0"/>
                    <a:pt x="0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dddddd">
                    <a:alpha val="80000"/>
                  </a:srgbClr>
                </a:gs>
                <a:gs pos="50000">
                  <a:srgbClr val="bbe0e3">
                    <a:alpha val="80000"/>
                  </a:srgbClr>
                </a:gs>
                <a:gs pos="100000">
                  <a:srgbClr val="dddddd">
                    <a:alpha val="80000"/>
                  </a:srgbClr>
                </a:gs>
              </a:gsLst>
              <a:lin ang="2700000"/>
            </a:gradFill>
            <a:ln w="64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6"/>
            <p:cNvSpPr/>
            <p:nvPr/>
          </p:nvSpPr>
          <p:spPr>
            <a:xfrm rot="468000">
              <a:off x="1575000" y="2365920"/>
              <a:ext cx="24480" cy="35892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30" h="320">
                  <a:moveTo>
                    <a:pt x="0" y="0"/>
                  </a:moveTo>
                  <a:lnTo>
                    <a:pt x="30" y="320"/>
                  </a:lnTo>
                </a:path>
              </a:pathLst>
            </a:custGeom>
            <a:noFill/>
            <a:ln w="64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7"/>
            <p:cNvSpPr/>
            <p:nvPr/>
          </p:nvSpPr>
          <p:spPr>
            <a:xfrm rot="468000">
              <a:off x="2442960" y="2865240"/>
              <a:ext cx="101520" cy="190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6" h="17">
                  <a:moveTo>
                    <a:pt x="0" y="0"/>
                  </a:moveTo>
                  <a:lnTo>
                    <a:pt x="0" y="15"/>
                  </a:lnTo>
                  <a:lnTo>
                    <a:pt x="126" y="17"/>
                  </a:lnTo>
                  <a:lnTo>
                    <a:pt x="126" y="5"/>
                  </a:lnTo>
                </a:path>
              </a:pathLst>
            </a:custGeom>
            <a:solidFill>
              <a:srgbClr val="ffffff"/>
            </a:solidFill>
            <a:ln w="64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8"/>
            <p:cNvSpPr/>
            <p:nvPr/>
          </p:nvSpPr>
          <p:spPr>
            <a:xfrm rot="468000">
              <a:off x="1594800" y="2352240"/>
              <a:ext cx="106560" cy="291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3" h="26">
                  <a:moveTo>
                    <a:pt x="1" y="14"/>
                  </a:moveTo>
                  <a:cubicBezTo>
                    <a:pt x="0" y="11"/>
                    <a:pt x="88" y="6"/>
                    <a:pt x="108" y="6"/>
                  </a:cubicBezTo>
                  <a:cubicBezTo>
                    <a:pt x="130" y="0"/>
                    <a:pt x="133" y="22"/>
                    <a:pt x="115" y="23"/>
                  </a:cubicBezTo>
                  <a:cubicBezTo>
                    <a:pt x="49" y="26"/>
                    <a:pt x="1" y="14"/>
                    <a:pt x="1" y="14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WordArt 29"/>
          <p:cNvSpPr txBox="1"/>
          <p:nvPr/>
        </p:nvSpPr>
        <p:spPr>
          <a:xfrm>
            <a:off x="2451240" y="4308480"/>
            <a:ext cx="109692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ON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0" name="WordArt 30"/>
          <p:cNvSpPr txBox="1"/>
          <p:nvPr/>
        </p:nvSpPr>
        <p:spPr>
          <a:xfrm>
            <a:off x="3478320" y="3376440"/>
            <a:ext cx="1257120" cy="50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K</a:t>
            </a:r>
            <a:endParaRPr b="0" i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10C6-BDEA-4FF2-B7F0-79929D6676B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vach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En compétition, en circuit club ou en local, on applique toujours les mêmes règles de sécurité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61642"/>
                </a:solidFill>
                <a:latin typeface="Arial"/>
              </a:rPr>
              <a:t>Choix du champ quand on est haut</a:t>
            </a:r>
            <a:endParaRPr b="0" lang="en-US" sz="16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61642"/>
                </a:solidFill>
                <a:latin typeface="Arial"/>
              </a:rPr>
              <a:t>VERDO</a:t>
            </a:r>
            <a:endParaRPr b="0" lang="en-US" sz="16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61642"/>
                </a:solidFill>
                <a:latin typeface="Arial"/>
              </a:rPr>
              <a:t>Tout Va Bien, Roger</a:t>
            </a:r>
            <a:endParaRPr b="0" lang="en-US" sz="16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61642"/>
                </a:solidFill>
                <a:latin typeface="Arial"/>
              </a:rPr>
              <a:t>Tour de piste</a:t>
            </a:r>
            <a:endParaRPr b="0" lang="en-US" sz="1600" spc="-1" strike="noStrike">
              <a:solidFill>
                <a:srgbClr val="161642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6d4b53"/>
                </a:solidFill>
                <a:latin typeface="Arial"/>
              </a:rPr>
              <a:t>On fera toujours au minimum un base et une finale</a:t>
            </a:r>
            <a:endParaRPr b="0" i="1" lang="en-US" sz="1400" spc="-1" strike="noStrike">
              <a:solidFill>
                <a:srgbClr val="6d4b5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6d4b53"/>
                </a:solidFill>
                <a:latin typeface="Arial"/>
              </a:rPr>
              <a:t>La finale doit être suffisamment longue (30 secondes)</a:t>
            </a:r>
            <a:endParaRPr b="0" i="1" lang="en-US" sz="1400" spc="-1" strike="noStrike">
              <a:solidFill>
                <a:srgbClr val="6d4b5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On ne découvre jamais le champ en finale.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On ne perd pas de vue le champ.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On n’essaie pas de raccrocher une fois en base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61642"/>
                </a:solidFill>
                <a:latin typeface="Arial"/>
              </a:rPr>
              <a:t>360° en finale = </a:t>
            </a:r>
            <a:r>
              <a:rPr b="1" lang="fr-FR" sz="1600" spc="-1" strike="noStrike" u="sng">
                <a:solidFill>
                  <a:srgbClr val="161642"/>
                </a:solidFill>
                <a:uFillTx/>
                <a:latin typeface="Arial"/>
              </a:rPr>
              <a:t>danger mortel</a:t>
            </a:r>
            <a:r>
              <a:rPr b="0" lang="fr-FR" sz="1600" spc="-1" strike="noStrike">
                <a:solidFill>
                  <a:srgbClr val="161642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On adopte la bonne vitesse :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61642"/>
                </a:solidFill>
                <a:latin typeface="Arial"/>
              </a:rPr>
              <a:t>Ni trop,</a:t>
            </a:r>
            <a:endParaRPr b="0" lang="en-US" sz="16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61642"/>
                </a:solidFill>
                <a:latin typeface="Arial"/>
              </a:rPr>
              <a:t>Et surtout ni trop peu : </a:t>
            </a:r>
            <a:r>
              <a:rPr b="1" lang="fr-FR" sz="1600" spc="-1" strike="noStrike" u="sng">
                <a:solidFill>
                  <a:srgbClr val="161642"/>
                </a:solidFill>
                <a:uFillTx/>
                <a:latin typeface="Arial"/>
              </a:rPr>
              <a:t>danger mortel</a:t>
            </a:r>
            <a:r>
              <a:rPr b="0" lang="fr-FR" sz="1600" spc="-1" strike="noStrike">
                <a:solidFill>
                  <a:srgbClr val="161642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En cas de vache en paquets, on essaiera de laisser de la place aux autres dans le champ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61642"/>
                </a:solidFill>
                <a:latin typeface="Arial"/>
              </a:rPr>
              <a:t>Sur un aérodrome ou champ roulable, on dégage très rapidement le planeur</a:t>
            </a:r>
            <a:endParaRPr b="0" lang="en-US" sz="16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61642"/>
                </a:solidFill>
                <a:latin typeface="Arial"/>
              </a:rPr>
              <a:t>Fréquence radio concours (ou celle de l’aérodrome).</a:t>
            </a:r>
            <a:endParaRPr b="0" lang="en-US" sz="1600" spc="-1" strike="noStrike">
              <a:solidFill>
                <a:srgbClr val="1616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space réservé de la date 6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DE4F-6CA2-49C5-B2D4-4AC70099F5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lan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Préparation du pilote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51040" y="1276200"/>
            <a:ext cx="808992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Préparation mentale et gestion des limit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gagner en sécurité, vol en paquet, départ-arrivée, la vache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Préparation physique et anti-dopage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Préparation de l'épreuve du jour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Vol d'équipe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comment s‘entre-aider sans se gêner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8E40-B923-45EC-B790-17317DB961B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vach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Il faut accepter de se vacher 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Le Vol à Voile est un jeu.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Trop de vélivoles se sont tués car leur ego leur a fait refuser la vache.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6d4b53"/>
                </a:solidFill>
                <a:latin typeface="Arial"/>
              </a:rPr>
              <a:t>Je dois absolument raccrocher car j’ai un rendez-vous ce soir.</a:t>
            </a:r>
            <a:endParaRPr b="0" i="1" lang="en-US" sz="2000" spc="-1" strike="noStrike">
              <a:solidFill>
                <a:srgbClr val="6d4b5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6d4b53"/>
                </a:solidFill>
                <a:latin typeface="Arial"/>
              </a:rPr>
              <a:t>Je dois absolument raccrocher sinon on va se moquer de moi.</a:t>
            </a:r>
            <a:endParaRPr b="0" i="1" lang="en-US" sz="2000" spc="-1" strike="noStrike">
              <a:solidFill>
                <a:srgbClr val="6d4b5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6d4b53"/>
                </a:solidFill>
                <a:latin typeface="Arial"/>
              </a:rPr>
              <a:t>Je dois absolument raccrocher pour prouver que je suis le meilleur.</a:t>
            </a:r>
            <a:endParaRPr b="0" i="1" lang="en-US" sz="2000" spc="-1" strike="noStrike">
              <a:solidFill>
                <a:srgbClr val="6d4b5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6d4b53"/>
                </a:solidFill>
                <a:latin typeface="Arial"/>
              </a:rPr>
              <a:t>Je dois absolument raccrocher car mon champ n’est pas bon.</a:t>
            </a:r>
            <a:endParaRPr b="0" i="1" lang="en-US" sz="2000" spc="-1" strike="noStrike">
              <a:solidFill>
                <a:srgbClr val="6d4b5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6d4b53"/>
                </a:solidFill>
                <a:latin typeface="Arial"/>
              </a:rPr>
              <a:t>Etc.</a:t>
            </a:r>
            <a:endParaRPr b="0" i="1" lang="en-US" sz="2000" spc="-1" strike="noStrike">
              <a:solidFill>
                <a:srgbClr val="6d4b5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6D78-610D-492B-AE1F-D56CD0EB5D3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Gestion des limi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Si vous faites quelque chose dont vous n’avez pas envie, si vous vous forcez, alors </a:t>
            </a:r>
            <a:r>
              <a:rPr b="1" lang="fr-FR" sz="2800" spc="-1" strike="noStrike" u="sng">
                <a:solidFill>
                  <a:srgbClr val="ffff66"/>
                </a:solidFill>
                <a:uFillTx/>
                <a:latin typeface="Arial"/>
              </a:rPr>
              <a:t>vous êtes en danger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Et ça ne va pas s’améliorer (stress).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’accident ne survient pas d’un coup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Mais après le franchissement de plusieurs limites.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Si vous ne sentez pas une option, si vous n’avez pas envie de voler dans certaines conditions, alors </a:t>
            </a:r>
            <a:r>
              <a:rPr b="0" lang="fr-FR" sz="2800" spc="-1" strike="noStrike" u="sng">
                <a:solidFill>
                  <a:srgbClr val="ffff66"/>
                </a:solidFill>
                <a:uFillTx/>
                <a:latin typeface="Arial"/>
              </a:rPr>
              <a:t>abstenez-vous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Personne ne vous en voudra.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rincipes valables en compétition et ailleurs.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42A2-2E63-4214-9375-26A00911F8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405320" y="274680"/>
            <a:ext cx="4572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réparation épreuve du jou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430880" y="990720"/>
            <a:ext cx="425592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Fiche de préparation « Eric Napoléon »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ermet 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De ne rien oublier dans la préparation de l’épreuve.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</p:txBody>
      </p:sp>
      <p:pic>
        <p:nvPicPr>
          <p:cNvPr id="163" name="Picture 4" descr="File0079"/>
          <p:cNvPicPr/>
          <p:nvPr/>
        </p:nvPicPr>
        <p:blipFill>
          <a:blip r:embed="rId1"/>
          <a:stretch/>
        </p:blipFill>
        <p:spPr>
          <a:xfrm>
            <a:off x="142920" y="100080"/>
            <a:ext cx="4238640" cy="66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8BDD-DCF1-4CE4-A991-890719E36F8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Vol d’équip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 vol en équipe permet 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D’améliorer les performances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D’obtenir une performance plus riche en échanges humains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D’augmenter la sécurité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2 cerveaux, 4 yeux.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 vol en équipe peut réduire la performance s’il est mal préparé / appliqué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Gains rapides à 2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Très difficile à réaliser à 3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A8C9-1CC6-43AB-89B4-4CBAEDFC3E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Règles du vol en équip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Avant le vol 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Avoir des planeurs équivalents (perfo, charge alaire)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Disposer d’une bonne radio et d’une fréquence « libre »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Avoir une confiance mutuelle et une connaissance de l’autre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Disposer d’instruments équivalents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6d4b53"/>
                </a:solidFill>
                <a:latin typeface="Arial"/>
              </a:rPr>
              <a:t>Variomètres, anémomètres étalonnés</a:t>
            </a:r>
            <a:endParaRPr b="0" i="1" lang="en-US" sz="2000" spc="-1" strike="noStrike">
              <a:solidFill>
                <a:srgbClr val="6d4b5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6d4b53"/>
                </a:solidFill>
                <a:latin typeface="Arial"/>
              </a:rPr>
              <a:t>GPS</a:t>
            </a:r>
            <a:endParaRPr b="0" i="1" lang="en-US" sz="2000" spc="-1" strike="noStrike">
              <a:solidFill>
                <a:srgbClr val="6d4b5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Préparer le circuit ensemble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6d4b53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6d4b5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EAFE-53FE-45C1-B5B6-EC601CA3060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Règles du vol en équip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En vol :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Gain en ascendance :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Centrage : 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e pas se suivre mais chercher ensemble le noy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ransmettre les varios instantanés et son fe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Montée :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ransmettre la valeur du vario integr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rtager et choisir le prochain cheminement avant d’être au plaf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’est le planeur le plus bas qui décide de quitter l’ascend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Transition :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Choisir ensemble la vitesse de transition et s’y tenir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40km/h ce n’est pas 150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Transmettre le vario netto (si disponible)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Voler proches, côte à côte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ur être dans la même masse d’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t assurer la sécurité avec 4 ye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0EA8-23FC-4452-B47F-085B30A8D9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Vol en équip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Si l’on est pas d’accord sur une option :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Il faut le dire (avant)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Eviter le syndrome « le premier qui parle à raison »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Si toujours pas d’accord : alors on se sépare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On continue à collaborer à distance.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Si l’on est séparé :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Le pilote qui est devant annonce et n’attend pas l’autre, mais lui transmet très objectivement et régulièrement: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Position,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Vario moyen,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Altitude à laquelle il quitte l’ascendance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d4b53"/>
                </a:solidFill>
                <a:latin typeface="Arial"/>
              </a:rPr>
              <a:t>Options</a:t>
            </a: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Avec ces indications le pilote en retard doit pouvoir le rattraper.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d4b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73B0-B70B-490A-A8E9-5A61E9E4F13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nti-dop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our la sécurité des sportifs,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our l’équité sportive,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ortail : </a:t>
            </a:r>
            <a:r>
              <a:rPr b="0" lang="fr-FR" sz="2800" spc="-1" strike="noStrike" u="sng">
                <a:solidFill>
                  <a:srgbClr val="080808"/>
                </a:solidFill>
                <a:uFillTx/>
                <a:latin typeface="Arial"/>
                <a:hlinkClick r:id="rId1"/>
              </a:rPr>
              <a:t>http://www.dopage.com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475E-3131-46BF-946B-C725E1907CD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 Vol à Voile est un sport comme les autre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a technique est nécessair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Mais ne suffit pas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’expérience est nécessair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Mais ne suffit pas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 matériel est nécessair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Mais ne suffit pas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’est le mental qui fait la différence!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422B-1D5D-4C4A-82B1-8FEA8C1B817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our gagn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Il faut le vouloir 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Et cela, plus que les autres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Un pilote motivé, confiant et préparé sera plus performant qu’un pilote qui n’a pas envie de voler et/ou qui doute.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 Vol à Voile est un sport à fort engagement.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Aucune victoire ne mérite de prendre des risques physiques (</a:t>
            </a:r>
            <a:r>
              <a:rPr b="0" i="1" lang="fr-FR" sz="2400" spc="-1" strike="noStrike">
                <a:solidFill>
                  <a:srgbClr val="161642"/>
                </a:solidFill>
                <a:latin typeface="Arial"/>
              </a:rPr>
              <a:t>i.e.</a:t>
            </a: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 conduisant à un accident).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C’est un jeu.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Il faut accepter de perdre.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4300-2EF8-49DC-BFE5-B61D6C02ACB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t d’espr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84640" y="1774800"/>
            <a:ext cx="4502160" cy="42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Voyez vous 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Un verre à moitié plein ?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Ou à moitié vide ?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795240" y="917640"/>
            <a:ext cx="31719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1A03-624F-43CB-86E6-FF43A1B24E4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at d’espr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84640" y="1876320"/>
            <a:ext cx="450216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Voyez vous 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Du 4 m/s ?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Un futur orage à éviter ?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814320" y="898560"/>
            <a:ext cx="318456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3144-FB58-4965-9EFD-14A4C29728B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ucidit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Il faut être lucide pour la sécurité 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Le verre n’est pas plein.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La situation peut évoluer à l’orage, donc on la surveille de près.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Mais sans excès 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J’ai de quoi boire.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Pour l’instant ce n’est qu’un congestus, j’ai le temps de monter dessous en sécurité.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63A4-792B-413B-9A73-7DA36DB09AB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ensée posi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8320" y="917640"/>
            <a:ext cx="810288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xemple : la prévision météo annonce des conditions piègeante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Pensée positive : « je vais faire la différence aujourd’hui »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6d4b53"/>
                </a:solidFill>
                <a:latin typeface="Arial"/>
              </a:rPr>
              <a:t>La situation n’est plus subie, elle devient une alliée.</a:t>
            </a:r>
            <a:endParaRPr b="0" i="1" lang="en-US" sz="2000" spc="-1" strike="noStrike">
              <a:solidFill>
                <a:srgbClr val="6d4b5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Pensée négative : « je vais me vacher, je ne veux pas voler »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xemple : raccrochage incertain à veni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Pensée positive : « je vais raccrocher, je l’ai déjà fait, je suis bien placé et j’ai un super champ au cas où  »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d4b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6d4b53"/>
                </a:solidFill>
                <a:latin typeface="Arial"/>
              </a:rPr>
              <a:t>Il est fort probable que ce pilote confiant et serein sente mieux une bulle ascendante</a:t>
            </a:r>
            <a:endParaRPr b="0" i="1" lang="en-US" sz="2000" spc="-1" strike="noStrike">
              <a:solidFill>
                <a:srgbClr val="6d4b5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61642"/>
                </a:solidFill>
                <a:latin typeface="Arial"/>
              </a:rPr>
              <a:t>Pensée négative : « je ne veux pas me vacher »</a:t>
            </a:r>
            <a:endParaRPr b="0" lang="en-US" sz="2400" spc="-1" strike="noStrike">
              <a:solidFill>
                <a:srgbClr val="16164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Espace réservé de la date 4"/>
          <p:cNvSpPr/>
          <p:nvPr/>
        </p:nvSpPr>
        <p:spPr>
          <a:xfrm>
            <a:off x="7467480" y="630864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172C-0D9D-4846-9FBC-88D8147C408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 stress (négatif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83920" y="990720"/>
            <a:ext cx="810252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Le stress est la peur de l’inconnu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Une bonne préparation permet de réduire les inconnues et donc diminuer le stres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J’ai bien écouté la météo : j’ai noté les points clés ou pièges et j’ai construit un schéma (heure de départ, etc.)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J’ai bien repéré l’axe des arrivées : je connais les points de repères altitude/distance et les dégagements.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Je m’impose de toujours rester en local d’un champ/aéro posable : je ne franchis pas mes limites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Durant le vol, on compare le schéma que l’on a imaginé au sol à la réalité en vol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616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61642"/>
                </a:solidFill>
                <a:latin typeface="Arial"/>
              </a:rPr>
              <a:t>Vous savez si la situation est plus favorable ou dégradée et donc vous pouvez adapter votre vol en conséquence</a:t>
            </a:r>
            <a:endParaRPr b="0" lang="en-US" sz="2000" spc="-1" strike="noStrike">
              <a:solidFill>
                <a:srgbClr val="16164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hilippe</cp:lastModifiedBy>
  <dcterms:modified xsi:type="dcterms:W3CDTF">2010-12-01T20:53:37Z</dcterms:modified>
  <cp:revision>238</cp:revision>
  <dc:subject/>
  <dc:title>PowerPoint Presentation</dc:title>
</cp:coreProperties>
</file>