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32400" cy="446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2192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462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48A0D-EBCA-4456-BCF8-9B8A32252B0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32400" cy="446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35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39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35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5114" t="3282" r="25264" b="370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4b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 rot="16200000">
            <a:off x="-2339640" y="2660400"/>
            <a:ext cx="5238720" cy="2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eaeaea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ww.ffvv.org</a:t>
            </a:r>
            <a:endParaRPr b="0" i="1" lang="en-US" sz="2400" spc="1" strike="noStrike">
              <a:ln w="9360">
                <a:solidFill>
                  <a:srgbClr val="eaeaea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8520" y="599436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95280" y="6305040"/>
            <a:ext cx="673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mission Sportive - FF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467480" y="6308280"/>
            <a:ext cx="1244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95BD-BE5D-4EAE-BD64-A47A8CB450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R&#233;daction%20de%20message%20(info@soaringspot.com)" TargetMode="External"/><Relationship Id="rId2" Type="http://schemas.openxmlformats.org/officeDocument/2006/relationships/hyperlink" Target="http://imp.free.fr/horde/imp/message.php?address=info%40soaringspot.com&amp;name=info%40soaringspot.com&amp;actionID=156&amp;array_index=0&amp;index=18952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oaringspot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74240"/>
            <a:ext cx="8991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estion des Sprints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vec SeeYou Competition et SoaringSp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16240" y="5054400"/>
            <a:ext cx="402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hilippe@depechy.net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1.00 - 07 mai 2008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1560" y="1311120"/>
            <a:ext cx="4321080" cy="353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30400" y="4862520"/>
            <a:ext cx="434340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48200" y="1292400"/>
            <a:ext cx="25146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prints et SeeYou-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3920" y="88848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etition et SoaringSpot ont été conçus pour gérer une compétition classi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les Sprints, il sera nécessaire d’utiliser des contournements ou des astuc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 prenant garde à un ou deux points clés, le gestionnaire des Sprints pourra en quelques clics analyser et publier automatiquement les résulta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ain global énorme en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lution automatique recommandée (la seule exi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56440" y="0"/>
            <a:ext cx="10875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fin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e Compétition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ensemble de class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e Classe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ensemble de participants jouant sur des épreuves commun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 Participant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pilote (ou un équipage) volant sur un planeur (avec un handicap associé). Un participant peut être inscrit dans plusieurs class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n Sprint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: est un challenge dans lequel des participants vont tenter d’effectuer la meilleure vitesse moyenne sur un circuit de référenc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Sprint sera vu comme une classe pour laquelle le circuit sera identique pour tous les jours d’épreu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compétition de Sprints contiendra un ou plusieurs Spr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 fichier CUC de SeeYou contient une et une seule class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nc il faut un fichier CUC par Sprint (ie par circuit de réfé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l faut prendre soin d’affecter pour chaque jour d’épreuve dans un CUC de Sprint le même circuit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fichier CUC fourni dans le Kit Sprint contient des formules de scoring adapté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core journalier du pilote = sa vitesse moyenne du jour après application du handicap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core général du pilote = son meilleur score journalier (ie sa meilleure vitesse moyen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 : Règl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4280" y="990720"/>
            <a:ext cx="8394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SeeYou Compétition n’est pas prévu pour qu’un pilote puisse changer de planeur (et de handicap) au cours de la compét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ègle dans le cas d’un concurrent participant à un Sprint sur différents types de machin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réer autant de fiches pilotes que de planeurs utilisés par un con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emple si Jean Durand participe à un Sprint sur le LS8 « ER » puis sur le Pégase « EG », créez deux concurren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Nom : Jean Durand / Type planeur : LS8 / NC : ER / Index : 108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Nom : Jean Durand / Type planeur : Pégase / NC : EG / Index : 104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 : Règl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étition n’est pas prévu pour qu’un planeur (n° de concours) puisse être utilisé par plusieurs pilotes dans une même class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ègle dans le cas d’un planeur utilisé par plusieurs pilotes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ites en sorte que les numéros de concours soient uniques dans la cla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 : si le planeur « ER » est utilisé par 3 pilotes, saisisez comme n° de concours : ER, ER1, 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ints clés : Règl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étition n’est pas prévu pour qu’un même enregistreur puisse servir à plusieurs pilotes dans une même class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ègle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 saisissez pas de n° d’enregistreur dans la fiche pilote (pas d’évaluation automatiq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ffectez manuellement chaque vol à chaque pilote (cf exemple sur diapos suivantes présentant la création et la gestion d’un s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1 : Créer un compte personnel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ur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3920" y="14479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onnectez vous sur http://www.soaringspot.com 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« Sign in » puis «Not registered yet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43200" y="2292480"/>
            <a:ext cx="4924440" cy="3166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79760" y="4216320"/>
            <a:ext cx="105408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7760" y="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Une fois votre compte créé, connectez-vous (« Sign in »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ous pourrez alors créer une compétition en cliquant sur « Register new competiton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04880" y="2246400"/>
            <a:ext cx="6112080" cy="4270320"/>
            <a:chOff x="1604880" y="2246400"/>
            <a:chExt cx="6112080" cy="42703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604880" y="2246400"/>
              <a:ext cx="611208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930320" y="5255640"/>
              <a:ext cx="1348200" cy="228240"/>
            </a:xfrm>
            <a:prstGeom prst="ellipse">
              <a:avLst/>
            </a:prstGeom>
            <a:noFill/>
            <a:ln w="82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8680" y="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83920" y="1689120"/>
            <a:ext cx="81025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lasse dans SeeYouCompétition est purement informative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’influence pas le calcul des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lle permet de faire un lien avec la classe dans SoaringSp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48680" y="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emple conc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ous allons suivre la création du Sprint de Brocéliande pour le club de Ploërm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11440" y="2108160"/>
            <a:ext cx="561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87520" y="1009440"/>
            <a:ext cx="6756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ésentation des Spri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ésentations des Outi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eYou Compé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aring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xemple de mise en place de Sprints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vec SeeYou et SoaringSp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7 ét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fois le formulaire validé, le serveur SoaringSpot vous enverra un mail contenant une clé identifiant votre compéti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9960" y="2422440"/>
            <a:ext cx="717552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Date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Wed, 7 May 2008 05:52:03 -0400</a:t>
            </a:r>
            <a:br>
              <a:rPr sz="1000"/>
            </a:b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De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</a:t>
            </a:r>
            <a:r>
              <a:rPr b="0" sz="1000" spc="-1" strike="noStrike" u="sng">
                <a:solidFill>
                  <a:srgbClr val="ffffcc"/>
                </a:solidFill>
                <a:uFillTx/>
                <a:latin typeface="Courier New"/>
                <a:ea typeface="Arial"/>
                <a:hlinkClick r:id="rId1"/>
              </a:rPr>
              <a:t>"info@soaringspot.com" &lt;info@soaringspot.com&gt;</a:t>
            </a:r>
            <a:r>
              <a:rPr b="0" sz="1000" spc="-1" strike="noStrike" u="sng">
                <a:solidFill>
                  <a:srgbClr val="ffffcc"/>
                </a:solidFill>
                <a:uFillTx/>
                <a:latin typeface="Courier New"/>
                <a:ea typeface="Arial"/>
                <a:hlinkClick r:id="rId2"/>
              </a:rPr>
              <a:t> </a:t>
            </a:r>
            <a:br>
              <a:rPr sz="1000"/>
            </a:b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À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philippe@depechy.net </a:t>
            </a:r>
            <a:br>
              <a:rPr sz="1000"/>
            </a:br>
            <a:r>
              <a:rPr b="1" sz="1000" spc="-1" strike="noStrike">
                <a:solidFill>
                  <a:srgbClr val="000000"/>
                </a:solidFill>
                <a:latin typeface="Courier New"/>
                <a:ea typeface="Arial"/>
              </a:rPr>
              <a:t>Objet: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 SoaringSpot key for sprintsploermel 2unnamedtext/html1,25 K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Dear Philippe de Pechy!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You have successfully registered a new competition at Soaring Spot: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Sprints de PloÃ«rmel:</a:t>
            </a: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http://www.soaringspot.com/sprintsploermel/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To administer your competition you will need to enter this key in your account at Soaring Spot:</a:t>
            </a: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Serial number: 02136, Key: </a:t>
            </a:r>
            <a:r>
              <a:rPr b="1" sz="1000" spc="-1" strike="noStrike">
                <a:solidFill>
                  <a:srgbClr val="ff3399"/>
                </a:solidFill>
                <a:latin typeface="Courier New"/>
                <a:ea typeface="Arial"/>
              </a:rPr>
              <a:t>ABCD-EFGH-IJKL-MNOP</a:t>
            </a: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, Competition Key for Soaring Spot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You need to enter this key in SeeYou Competition in order to be able to upload results to Soaring Spot later. You should enter it through Edit &gt; Contest properties &gt; Options &gt; Registration key. Make sure that the class you have selected in CUC file is exactly the same as the one you have setup at Soaring Spot.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At Soaring Spot you need to sign in to your account at http://www.soaringspot.com/myaccount/. There you can enter the key to the Registration key field in order to change the settings for this competition. Make sure only trusted people have access to this key.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Enjoy using SoaringSpot.com!</a:t>
            </a:r>
            <a:br>
              <a:rPr sz="1000"/>
            </a:br>
            <a:r>
              <a:rPr b="0" sz="1000" spc="-1" strike="noStrike">
                <a:solidFill>
                  <a:srgbClr val="000000"/>
                </a:solidFill>
                <a:latin typeface="Courier New"/>
                <a:ea typeface="Arial"/>
              </a:rPr>
              <a:t>The SoaringSpot 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4400" y="4597560"/>
            <a:ext cx="1613160" cy="3045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217000" y="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ans un navigateur web, tout un chacun peut maintenant accéder à votre page en tappant comme adress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ttp://www.soaringspot.com/votre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tre code étant le champ « Short competition title » saisi dans le formulaire précédent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: http://www.soaringspot.com/sprintsploerm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6221"/>
          <a:stretch/>
        </p:blipFill>
        <p:spPr>
          <a:xfrm>
            <a:off x="1660680" y="3732120"/>
            <a:ext cx="5038560" cy="3125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53452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2 : Créer une nouvelle compétition dans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3920" y="1701360"/>
            <a:ext cx="8102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servez précieusement ce code car il est indispensable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modifier la compétition via le serveur web SoaringSpot ou ajouter des informations, des fichiers à télécharger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publier les résultats via SeeYouCompé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3  : Etablir une base de circuits de référence dans See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fin d’éviter de redéfinir chaque jour les circuits, il est judicieux d’utiliser SeeYou afin de créer une base de points de virage et de circuits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ne fois établies, on sauvegardera ces bases au format *.CUP afin de la publier et réutiliser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ans notre exemple, il existe une base Bretagne2008-101.CUP que nous avons chargé dans SeeYou. Elle contient 5 circuits dans le Sprint de Brocéliande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90840" y="3035160"/>
            <a:ext cx="6495840" cy="382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47240" y="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Créer une classe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SeeYou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796284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réez un répertoire dans lequel vous gérerez vos sprints avec un sous répertoire pour chacun d’eux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12309"/>
          <a:stretch/>
        </p:blipFill>
        <p:spPr>
          <a:xfrm>
            <a:off x="2533680" y="1973160"/>
            <a:ext cx="4705200" cy="380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Créer une classe dans SeeYou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796284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opiez les fichiers du kit Sprint dans chaque répertoire de Sprint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15822"/>
          <a:stretch/>
        </p:blipFill>
        <p:spPr>
          <a:xfrm>
            <a:off x="2206800" y="1897200"/>
            <a:ext cx="4705200" cy="364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Créer une classe dans SeeYou Com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796284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enommez le fichier KitSprints-xxx.cuc selon le nom de votre Sprint (ex : SprintBroceliande.cuc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143080" y="1820880"/>
            <a:ext cx="4705560" cy="3622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Lancer SeeYou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Pour lancer SeeYou en mode Compétition, il suffit de double cliquer sur un fichier *.CUC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le fichier *.CUC que vous venez de renommer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2440" y="2257560"/>
            <a:ext cx="8601120" cy="380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209080" y="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Propriétés de la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ne fois ouvert, cliquez sur l’icône « Propriétés de la compétition »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Saisissez dans l’onglet « Général » les informations de votre sprint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14640" y="2936880"/>
            <a:ext cx="3152880" cy="383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0" b="70847"/>
          <a:stretch/>
        </p:blipFill>
        <p:spPr>
          <a:xfrm>
            <a:off x="1495440" y="1927080"/>
            <a:ext cx="6480000" cy="83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81960" y="2260440"/>
            <a:ext cx="49536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09080" y="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Propriétés de la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ans l’onglet « Options  », recopiez la clé SoaringSpot que vous avez reçue par mail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3440" y="1690560"/>
            <a:ext cx="3800520" cy="461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629080" y="3657600"/>
            <a:ext cx="219708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09080" y="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Spr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3920" y="1688760"/>
            <a:ext cx="587988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oncept introduit par Eric Napolé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Objectif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ouvrir la compétition de façon lud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er sa performance et progres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 un circuit de référence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comm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rivilégier la vitesse à la distanc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ler et jouer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ensem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ous les niveaux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ous les planeur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&gt; Créer une émulation dans les clu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18360" y="1778040"/>
            <a:ext cx="2324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Saisir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l’icône « Ajouter des pilotes » pour ajouter un concurrent et saissez ses information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s données pilotes à saisir </a:t>
            </a:r>
            <a:br>
              <a:rPr sz="2000"/>
            </a:b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obligatoirement sont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én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ndex : handicap plan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C : numéro de conc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70847"/>
          <a:stretch/>
        </p:blipFill>
        <p:spPr>
          <a:xfrm>
            <a:off x="1469880" y="1698480"/>
            <a:ext cx="6480360" cy="835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99080" y="2070000"/>
            <a:ext cx="380880" cy="2667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68760" y="2606760"/>
            <a:ext cx="3351240" cy="425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145360" y="0"/>
            <a:ext cx="9986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4 : Saisir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a liste des pilotes se construit au fur à et à mesure des ajouts de concurrents. Dans notre exemple nous n’aurons qu’un pilot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A ce stade, la classe est initiée. Il faut maintenant créer des journées d’épreuv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2880" y="1679400"/>
            <a:ext cx="8601120" cy="329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145360" y="0"/>
            <a:ext cx="9986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Créer une journée de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chaque journée durant laquelle au moins un concurrent a accompli le sprint, il est nécessaire de créer une journée d’épreuve grâce au bouton « Ajouter une journée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70847"/>
          <a:stretch/>
        </p:blipFill>
        <p:spPr>
          <a:xfrm>
            <a:off x="1076400" y="2968560"/>
            <a:ext cx="6480000" cy="835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73520" y="3289320"/>
            <a:ext cx="495360" cy="30492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Créer une journée de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isissez à minima la date et l’altitude de décollage puis cliquez sur « OK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108240" y="1862280"/>
            <a:ext cx="3791160" cy="480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Créer une journée de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eeYou affiche alors l’écran des résultats journaliers corresponda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Il faut maintenant affecter un circuit à cette journé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50920" y="1752480"/>
            <a:ext cx="6334200" cy="3489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Affecter un circuit à une journ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Menu-&gt;Edition cliquez sur « Assigner un circuit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Une fenêtre contant la base des circuits actifs dans SeeYou est affichée. Sélectionnez le circuit correspondant à votre sprint (ici le Sprint de Brocéliande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69880" y="2414520"/>
            <a:ext cx="6077160" cy="309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5 : Affecter un circuit à une journ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825120"/>
            <a:ext cx="810252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es paramètres du circuit sont automatiquement recopiés à l’identique dans la journée d’épreuve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peut maintenant analyser la performance des concurre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49400" y="1523880"/>
            <a:ext cx="6880320" cy="378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416800" y="0"/>
            <a:ext cx="727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6 : Analyser les performances journalières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ouble-cliquez sur le nom du pilote dans la grille des résultats journaliers afin d’obtenir la fiche correspondante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90680" y="1795320"/>
            <a:ext cx="8162640" cy="326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03880" y="2238480"/>
            <a:ext cx="3790800" cy="4619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6 : Analyser les performances journalières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4280" y="990720"/>
            <a:ext cx="4457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liquez sur « Parcourir » afin de sélectionner manuellement le fichier d’enregistrement de vol correspondant à ce pilote pour cette journé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eeYou va ensuite mesurer la performance (distance, vitesse) et le score associé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alidez en cliquant sur OK ou modifier manuellement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24560" y="1028880"/>
            <a:ext cx="3416400" cy="1616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513400" y="2822400"/>
            <a:ext cx="3062160" cy="3730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6 : Analyser les performances journalières des concurr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6120" y="1053720"/>
            <a:ext cx="79884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épétez cette opération pour tous les concurrents ayant participé au sprint durant cette journée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ous obtenez alors le classement journalier et le score général à ce jour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68160" y="2468520"/>
            <a:ext cx="8163000" cy="326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besoins pour réaliser des Spr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7621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ndispensabl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ou plusieurs animateurs dans le club incitant les membres à partici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ou plusieurs circuit de réfé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Coordonnées des point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Forme des zones d’observation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Fortement recommandé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GPS enregistreur par planeur particip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our permettre une évaluation objective par analyse de la performanc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util d’analyse des v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our mesurer la vitesse moyenne de chaque participant, pour contrôler les paramètres (altitudes, etc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ecommandé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ublication des résult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Affichage dans le club et site web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46960" y="0"/>
            <a:ext cx="7970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7 : Publier sur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liquez sur le bouton « Publish to Internet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i votre ordinateur est connecté à Internet, tout est automatiqu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0" b="70847"/>
          <a:stretch/>
        </p:blipFill>
        <p:spPr>
          <a:xfrm>
            <a:off x="1521000" y="2435400"/>
            <a:ext cx="6480000" cy="834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664240" y="2768760"/>
            <a:ext cx="495360" cy="3045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946760" y="3595680"/>
            <a:ext cx="3543120" cy="233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857160" y="3570120"/>
            <a:ext cx="3543480" cy="2333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8026560" y="0"/>
            <a:ext cx="1117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4280" y="990720"/>
            <a:ext cx="81025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38040" y="471600"/>
            <a:ext cx="84679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pe 7 : Publier sur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fichiers de vol IGC seront automatiquement transférés et rendus public si vous avez indiqué que les résultats journaliers sont non-officiels ou officie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cun envoi de fichiers IGC si résultats prélimin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089920" y="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s de compétition comportant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usieurs Spr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tilisez l’exemple suivant pour une compétition avec 3 Sprints (classes)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asse SeeYou (CUC)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Code dans SoaringSpot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Renommage utilisateur SoaringSp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ub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Club Class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MonSprint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Standard Class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MonSprint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asse course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15-meter </a:t>
            </a:r>
            <a:r>
              <a:rPr b="0" lang="fr-FR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MonSprint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e renommez pas les classes dans les propriétés de la compétition du fichier SeeYou CUC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eYou et SoaringSpot échangent des identifiants numériques de classe (invisible) et non leurs libel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5200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06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ucs et astu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nviter les participants à déposer le fichier IGC de leur Sprint sur la NetCoup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us les récupérez facilement pour scorer ensuite les Spr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 bug existe dans SeeYou Compétition lors de la suppression de pilot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itez la suppression de pil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près chaque journée de Sprint, archivez le fichier CUC correspondant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la vous permettra de revenir dans cet état en cas de problème ultéri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ubliez sur SoaringSpot votre base de points/circuits et un PDF comportant la fiche des circuits Spri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42472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ucs et astu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l n’est pas possible de supprimer une compétition de SoaringSpo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as d’erreur ou de test, changer la date de la compétition (2003 par exemp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Traitez le fichier CUC sur un seul PC et par des utilisateurs averti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fin d’éviter les écrasements par deux utilisateurs distants disposant de la clé Soaring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424720" y="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emples de Sprints sur SoaringSp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Sprints du CNVV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3 sprints proposés au départ de Saint-Au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ttp://www.soaringspot.com/cnvvsprint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Sprints de Ploërm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print de Brocéliande réalisable en local de Plöer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ttp://www.soaringspot.com/sprintsploermel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Sprints de Bretag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prints communs entre les clubs de Rennes et de Ploërmel (départ à mi-che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ttp://www.soaringspot.com/sprintsbzh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5200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53720" y="1917360"/>
            <a:ext cx="445788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Arial"/>
              </a:rPr>
              <a:t>Bons Vols!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Arial"/>
              </a:rPr>
              <a:t>Bons Sprints!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684760" y="15112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outils : SeeYou Compé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: ce logiciel permet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 gestion de la base de point de vi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 gestion d’une base de circ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analyse des enregistrement de v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eYou Compétition : ce module inclus dans SeeYou perme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scoring de compétition = attribuer des points à un ensemble de pilote en fonction de leur performance sur un circuit comm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utomatique ou débrayable manuel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outils : SoaringSpo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rtail web mondial des compétitions vélivoles et de vol lib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oaringspo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ervices gratuits offert pars Naviter (éditeur de SeeYou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estion de b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estion d’un site web de compé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Téléchargement des documents officiel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Infos du jour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Galerie photo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Publication des résultats automatique via SeeYou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64360" y="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érequ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PC sous WindowsXP ou 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 licence SeeYou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éléchargez et utilisez toujours la dernière version (3.81 à l’heure de l’édition de ce guide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t Sp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éléchargeable sur http://www.ffvv.org, espace collaboratif « Commission Sportive » (login : FFVV, mot de passe : planeur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exion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De préference permanente et haut débit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onnaissances informatiqu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tilisateur niveau bureaut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Maitrise de l’explorateur de fichier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Gestion de dossier et archivag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yant le reflexe de consulter la documentation exist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92960" y="0"/>
            <a:ext cx="8510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prints vs Compétition clas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4280" y="863280"/>
            <a:ext cx="836928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s Sprints se rapprochent d’une compétition classiqu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oupe de concur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rticipant à des épreuves journaliè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erformance individuelle journalière attribuant un score journalier à chaque con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partir duquel un score général est synthétis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avec les variantes suivante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concurrent peu changer de planeur (et de handic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ircuit est invariant en fonction de la journ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nouveaux concurrents peuvent apparaître en cours de compé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concurrents ne participent pas forcément le même j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de Péchy</cp:lastModifiedBy>
  <dcterms:modified xsi:type="dcterms:W3CDTF">2008-05-07T15:06:54Z</dcterms:modified>
  <cp:revision>114</cp:revision>
  <dc:subject/>
  <dc:title>PowerPoint Presentation</dc:title>
</cp:coreProperties>
</file>